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push.wav" ContentType="audio/x-wav"/>
  <Override PartName="/ppt/media/image30.gif" ContentType="image/gif"/>
  <Override PartName="/ppt/media/image20.png" ContentType="image/png"/>
  <Override PartName="/ppt/media/image21.png" ContentType="image/png"/>
  <Override PartName="/ppt/media/image19.png" ContentType="image/png"/>
  <Override PartName="/ppt/media/explode.wav" ContentType="audio/x-wav"/>
  <Override PartName="/ppt/media/image18.jpeg" ContentType="image/jpeg"/>
  <Override PartName="/ppt/media/image15.png" ContentType="image/png"/>
  <Override PartName="/ppt/media/chimes.wav" ContentType="audio/x-wav"/>
  <Override PartName="/ppt/media/image36.gif" ContentType="image/gif"/>
  <Override PartName="/ppt/media/image16.jpeg" ContentType="image/jpeg"/>
  <Override PartName="/ppt/media/image14.png" ContentType="image/png"/>
  <Override PartName="/ppt/media/image1.png" ContentType="image/png"/>
  <Override PartName="/ppt/media/image25.jpeg" ContentType="image/jpeg"/>
  <Override PartName="/ppt/media/image2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7.jpeg" ContentType="image/jpeg"/>
  <Override PartName="/ppt/media/image27.jpeg" ContentType="image/jpeg"/>
  <Override PartName="/ppt/media/image10.png" ContentType="image/png"/>
  <Override PartName="/ppt/media/drumroll.wav" ContentType="audio/x-wav"/>
  <Override PartName="/ppt/media/applause.wav" ContentType="audio/x-wav"/>
  <Override PartName="/ppt/media/image5.png" ContentType="image/png"/>
  <Override PartName="/ppt/media/image29.gif" ContentType="image/gif"/>
  <Override PartName="/ppt/media/image22.jpeg" ContentType="image/jpeg"/>
  <Override PartName="/ppt/media/image9.png" ContentType="image/png"/>
  <Override PartName="/ppt/media/image31.jpeg" ContentType="image/jpeg"/>
  <Override PartName="/ppt/media/whoosh.wav" ContentType="audio/x-wav"/>
  <Override PartName="/ppt/media/image28.jpeg" ContentType="image/jpeg"/>
  <Override PartName="/ppt/media/image38.wmf" ContentType="image/x-wmf"/>
  <Override PartName="/ppt/media/image35.gif" ContentType="image/gif"/>
  <Override PartName="/ppt/media/image11.png" ContentType="image/png"/>
  <Override PartName="/ppt/media/image6.png" ContentType="image/png"/>
  <Override PartName="/ppt/media/image34.png" ContentType="image/png"/>
  <Override PartName="/ppt/media/image4.png" ContentType="image/png"/>
  <Override PartName="/ppt/media/image24.gif" ContentType="image/gif"/>
  <Override PartName="/ppt/media/image32.jpeg" ContentType="image/jpeg"/>
  <Override PartName="/ppt/media/image3.png" ContentType="image/png"/>
  <Override PartName="/ppt/media/image17.jpeg" ContentType="image/jpeg"/>
  <Override PartName="/ppt/media/image23.gif" ContentType="image/gif"/>
  <Override PartName="/ppt/media/image26.png" ContentType="image/png"/>
  <Override PartName="/ppt/media/image33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F998-5A21-481F-80BC-59CF849E3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74EB-FED1-4127-A91E-9E083104C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E95865-B818-47DD-AF67-62AF1B27F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34B0F7-F640-450D-A3FE-A6A272468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A28398-49E9-4685-B03A-B7B3EA03F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1F6632-59C3-4FA7-A06D-4EEEFC12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C80B87-D14F-4011-8F3F-70E5157A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A9F331-7D13-40FC-9289-217AB7F8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DA7413-0CE9-4A1C-B510-93387AC3D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21084A-91B8-4A5A-A3A9-9D0B29A32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A6ED2E-B476-43FF-99D0-29EB98342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10820D-EA14-4E3B-B5ED-3C7201A90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910E-B912-4B63-A8E7-582B48592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DB3CF2-1B53-444E-A8A8-56DB0B8E8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BEE073-FA5F-4EC5-87FC-9D07DAB0C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85965B-072F-433D-913A-39B20016F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CFD2F6-ACA9-4A33-8D5D-ECDA42748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ED09D1-2F4B-416E-A19A-9F6FAF70D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3F30B7-FC8D-4068-9A53-4F21B9C6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AB25DE-D4BB-41F1-AA89-A0E96498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12EC2C-ED7B-4A89-A3CF-90098AFD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8A8B9D-BDA9-4080-A6D9-6E505F62A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EEAE8A-13EC-4613-82E3-BBA8DEE6A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2194-4B39-49A8-AC09-376342955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A9B6A0-5474-40F8-B5C7-19F64B06C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8DCD78-3A32-4EFA-A71C-E82350534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7C580D-49A5-4F00-BD5E-EDD5E7207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0BD088-22E1-4D4F-A526-CE9AC9424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414FD8-05B0-4A5F-8E06-9D4562C99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8ABBAF-CD31-4A02-A72C-6D8BB1C85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FC395C-91EB-4D6B-879F-6836F7541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708EEA-F3BB-4159-915C-C16F9085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4FB133-CE74-4C30-9188-0858E87B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E2070D-1D3C-4D5A-AF22-BC672DFD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1503C-57F9-4483-BAFB-B004C4764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E7AFD0-9621-461A-B6BA-0398EA98B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DC0A00-DA89-457C-BD95-476C257BD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0649E1-75D2-4E1B-B254-9946F5A4D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85A431-6AB8-4734-AD77-3F6B12C92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3D263D-BA81-4F4A-BB1D-A65E465F1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1E0B31-8183-41F2-BF8B-1AAA6101D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3B94B0-2467-4786-8F15-A7E0534E0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EC0CC7-9980-4D52-A52A-47ADBC706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FC4A06-FFE2-4085-A011-BDE376FBB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ED7B2C-24AB-4DE6-BE3D-2D850343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54AEA-F994-4959-9B74-D295BFE94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A53EC8-F6E1-4A6D-ADE1-47CADAF7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84E349-0EB3-4F7E-804D-A7F82E17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5DA2A1-7F53-4A4D-95CB-F3A770027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05740A-8839-43A1-8FF3-5B8C99A72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C23E08-02CA-4E15-8EA7-DFFE7AFE2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A8B4E-FC02-4249-AD2C-283CEC414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8978D-6606-4628-A26B-865D555B7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5090A-2703-447B-90DD-49B5BBBB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0D1EA-8717-4649-9233-C4477B8EE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D4526-45CF-4AC2-A75A-CC37B367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655D-5C51-4FDF-A289-A6F3CAE3E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D0DAA-172E-4232-8A6C-E40F8B76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51DFA-285A-4B48-80CB-42F7D68C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9399A-621E-409E-BA4A-5C1B5A777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51427-9D05-44F8-A3EE-0EDD1717D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BFAF2-FCC7-4CD5-8B24-DB2D1C695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046E6-1671-41D8-9558-3395443BB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C296E-5705-4352-BE49-9AEE2430A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1054D-9F13-4409-B3FE-86A9A39D5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FFA06-F2FA-4689-BCA8-768B81096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D6DB6-E29B-4A70-B534-4140C93BA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7C91-22F6-40E2-9A24-13B889847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E956C-043D-4F3E-B73D-434292921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BF9A7-02AD-49A8-BBAF-A9965537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F83E7-F3E5-47EE-B413-87974AD6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AD0CC-7282-4BA5-935F-7741C8EF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6C901-14CD-42AF-A63B-26759EBF6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CA2C4-7CDC-49AE-8CCB-55A10CE10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81907-CF7B-49DE-9005-D493C4E99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C22F0-0CF7-47A7-BE85-23D4FC8B7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E67C1-549B-4B40-9C57-E0345A39F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2F7FB-BF0A-4DBB-BB0D-6B05E05E4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4E63-356E-4310-AF35-AA7AC21E1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46932-8E6A-4FDF-BD21-6BC9E2060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5FD71-51E0-46F7-84C2-9BA92117F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C8C5B-223B-47E4-8F67-423B44540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65CF8-2879-48EB-A2FF-50473ED5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118DF-C833-4205-8B4B-5E779402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03AE8-5298-460E-9391-B6BE48CC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826B8-CACE-40DC-A10E-DA282BC5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6EEF3-B9BD-4126-9B89-76A208456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C1312-E737-4EAE-9C68-B35700F6B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3AC5A-E1BC-4DD2-8AEA-2A77CD952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32FA-2EFC-4ADB-87AC-CA33EADB1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A7CE4-E582-4470-81E5-E698A010A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D1587-72AE-4438-80CE-714CC596C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9C6CC-8638-46C2-B0C5-7953971A8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7755F-A913-4416-9F77-1F83A7AC8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D918C-68D6-4D51-8F45-37E4A29D7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0D75E-47DC-4155-909D-686A8155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400AE-469D-4563-BEB0-A77BD610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74846-175E-4B37-8761-D7A67440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12247-E07B-4275-BF25-A9D2039CD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42B3A-226F-40E9-ADAB-494FDB8AD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1A93-F522-4241-9F9B-905E2FA5E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34F8C-3CA0-441B-8746-AD1C46CE7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0F8B1-D923-41F9-A98F-D8898821C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A31F6-5B4A-424F-A6E4-77147AAEB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273211-F685-4711-97FA-BC8EABE49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D3E0C7-6AE0-44E0-BB59-612B899A7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C8ADA-C3C8-4FAC-BE5A-91D280CC1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D089C-DEA7-4ECB-888B-E20546109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398EA9-6F08-41C9-9CF0-3A35782C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F6E7BD-B7DA-41A6-8F20-7683AFDC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FA586A-AC46-46B1-BD97-FE988FDD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5110-42CE-4CFE-AD73-E88D038D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DF299-1428-466A-AE13-029D821DB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C4A3E-F473-41A8-A705-37EB2357A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B2668F-F620-44D1-BCAD-81C8C0886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265DB-73B7-46A3-BCF7-7458461EA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11360E-0A7E-4F41-9650-DEB006371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248500-FB6A-48FF-943C-0FBD0678B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75A24-2508-4841-BE03-6801CC40D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026B62-E7EF-4140-B25E-F1290D3C2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A3CC86-AF3A-4A8A-BD25-676A6AE83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16DC04-286F-4866-BAFC-D6AD6ECF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C40C-396D-4928-AEE1-C13EBB19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F3D73B-893B-43BF-96DA-1FC8C445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9FF166-8D6B-4C38-A91C-4A42AE1D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763721-E6C2-4A86-893C-F3077957A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C03A9-C9B7-4B54-B6A5-112C62F38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E36D2-0DC4-4520-9428-EF93EC789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91CCEA-CBCF-4955-A905-A8474D0EB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757B41-51B5-4DB0-B4F2-A20F67283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1E5BB0-6379-44A4-8B64-4620C6998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CF1D13-2B72-4F2F-ADBD-1D4B11CA4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CA5135-B723-408F-8FAD-90B53D241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8C96-8BBE-48D8-A0AA-59410EC1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2D150F-C0C3-4A64-83D6-6D20986BC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AA5367-D527-43CB-8579-AD534C25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0C03CB-9CA3-4E68-A286-BF993978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48E431-1FAC-4ED2-9FC2-42E1BBEFC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602C30-C136-430D-91E9-CFF0F97C9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F817C3-A53C-4345-A7F1-DF3420BB4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BE88C9-4B63-4190-BDD3-E94AB4F84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BED035-7643-4B6D-B20A-F5404BFA1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A9137D-BD75-4C92-8DCF-9F5710BB5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0E77FE-CC26-49DA-9C4A-4AC98AAD1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6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97.xml"/><Relationship Id="rId10" Type="http://schemas.openxmlformats.org/officeDocument/2006/relationships/slideLayout" Target="../slideLayouts/slideLayout98.xml"/><Relationship Id="rId11" Type="http://schemas.openxmlformats.org/officeDocument/2006/relationships/slideLayout" Target="../slideLayouts/slideLayout99.xml"/><Relationship Id="rId12" Type="http://schemas.openxmlformats.org/officeDocument/2006/relationships/slideLayout" Target="../slideLayouts/slideLayout100.xml"/><Relationship Id="rId13" Type="http://schemas.openxmlformats.org/officeDocument/2006/relationships/slideLayout" Target="../slideLayouts/slideLayout101.xml"/><Relationship Id="rId14" Type="http://schemas.openxmlformats.org/officeDocument/2006/relationships/slideLayout" Target="../slideLayouts/slideLayout102.xml"/><Relationship Id="rId15" Type="http://schemas.openxmlformats.org/officeDocument/2006/relationships/slideLayout" Target="../slideLayouts/slideLayout103.xml"/><Relationship Id="rId16" Type="http://schemas.openxmlformats.org/officeDocument/2006/relationships/slideLayout" Target="../slideLayouts/slideLayout104.xml"/><Relationship Id="rId17" Type="http://schemas.openxmlformats.org/officeDocument/2006/relationships/slideLayout" Target="../slideLayouts/slideLayout105.xml"/><Relationship Id="rId18" Type="http://schemas.openxmlformats.org/officeDocument/2006/relationships/slideLayout" Target="../slideLayouts/slideLayout106.xml"/><Relationship Id="rId19" Type="http://schemas.openxmlformats.org/officeDocument/2006/relationships/slideLayout" Target="../slideLayouts/slideLayout107.xml"/><Relationship Id="rId20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762A0-0813-4E10-912C-DA9313C30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"/>
          <p:cNvGrpSpPr/>
          <p:nvPr/>
        </p:nvGrpSpPr>
        <p:grpSpPr>
          <a:xfrm>
            <a:off x="8723160" y="0"/>
            <a:ext cx="431640" cy="6845040"/>
            <a:chOff x="8723160" y="0"/>
            <a:chExt cx="431640" cy="6845040"/>
          </a:xfrm>
        </p:grpSpPr>
        <p:sp>
          <p:nvSpPr>
            <p:cNvPr id="418" name=""/>
            <p:cNvSpPr/>
            <p:nvPr/>
          </p:nvSpPr>
          <p:spPr>
            <a:xfrm>
              <a:off x="8723160" y="2139840"/>
              <a:ext cx="431640" cy="470520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723160" y="0"/>
              <a:ext cx="431640" cy="4030200"/>
            </a:xfrm>
            <a:prstGeom prst="rect">
              <a:avLst/>
            </a:prstGeom>
            <a:solidFill>
              <a:srgbClr val="a3e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0" y="1440"/>
            <a:ext cx="1725120" cy="6842160"/>
            <a:chOff x="0" y="1440"/>
            <a:chExt cx="1725120" cy="6842160"/>
          </a:xfrm>
        </p:grpSpPr>
        <p:sp>
          <p:nvSpPr>
            <p:cNvPr id="421" name=""/>
            <p:cNvSpPr/>
            <p:nvPr/>
          </p:nvSpPr>
          <p:spPr>
            <a:xfrm>
              <a:off x="0" y="4586040"/>
              <a:ext cx="781200" cy="225756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0" y="1440"/>
              <a:ext cx="781200" cy="2751120"/>
            </a:xfrm>
            <a:prstGeom prst="rect">
              <a:avLst/>
            </a:prstGeom>
            <a:solidFill>
              <a:srgbClr val="a4e0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81200" y="1440"/>
              <a:ext cx="576000" cy="178920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81200" y="1760400"/>
              <a:ext cx="576000" cy="5083200"/>
            </a:xfrm>
            <a:prstGeom prst="rect">
              <a:avLst/>
            </a:prstGeom>
            <a:solidFill>
              <a:srgbClr val="a3e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0" y="2741400"/>
              <a:ext cx="781200" cy="968400"/>
            </a:xfrm>
            <a:prstGeom prst="rect">
              <a:avLst/>
            </a:prstGeom>
            <a:solidFill>
              <a:srgbClr val="7db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0" y="3709800"/>
              <a:ext cx="781200" cy="968400"/>
            </a:xfrm>
            <a:prstGeom prst="rect">
              <a:avLst/>
            </a:prstGeom>
            <a:solidFill>
              <a:srgbClr val="76ad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7" name=""/>
            <p:cNvGrpSpPr/>
            <p:nvPr/>
          </p:nvGrpSpPr>
          <p:grpSpPr>
            <a:xfrm>
              <a:off x="1362240" y="2431800"/>
              <a:ext cx="362880" cy="1562040"/>
              <a:chOff x="1362240" y="2431800"/>
              <a:chExt cx="362880" cy="1562040"/>
            </a:xfrm>
          </p:grpSpPr>
          <p:sp>
            <p:nvSpPr>
              <p:cNvPr id="428" name=""/>
              <p:cNvSpPr/>
              <p:nvPr/>
            </p:nvSpPr>
            <p:spPr>
              <a:xfrm>
                <a:off x="1362240" y="2431800"/>
                <a:ext cx="182160" cy="1562040"/>
              </a:xfrm>
              <a:prstGeom prst="rect">
                <a:avLst/>
              </a:prstGeom>
              <a:solidFill>
                <a:srgbClr val="3189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542960" y="3882600"/>
                <a:ext cx="182160" cy="108000"/>
              </a:xfrm>
              <a:prstGeom prst="rect">
                <a:avLst/>
              </a:prstGeom>
              <a:solidFill>
                <a:srgbClr val="3189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216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0" name=""/>
          <p:cNvGrpSpPr/>
          <p:nvPr/>
        </p:nvGrpSpPr>
        <p:grpSpPr>
          <a:xfrm>
            <a:off x="1533600" y="3645000"/>
            <a:ext cx="7142040" cy="3240"/>
            <a:chOff x="1533600" y="3645000"/>
            <a:chExt cx="7142040" cy="3240"/>
          </a:xfrm>
        </p:grpSpPr>
        <p:sp>
          <p:nvSpPr>
            <p:cNvPr id="431" name=""/>
            <p:cNvSpPr/>
            <p:nvPr/>
          </p:nvSpPr>
          <p:spPr>
            <a:xfrm>
              <a:off x="1533600" y="3645000"/>
              <a:ext cx="7142040" cy="3240"/>
            </a:xfrm>
            <a:prstGeom prst="line">
              <a:avLst/>
            </a:prstGeom>
            <a:ln w="7200">
              <a:solidFill>
                <a:srgbClr val="3189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 txBox="1"/>
            <p:nvPr/>
          </p:nvSpPr>
          <p:spPr>
            <a:xfrm>
              <a:off x="1533600" y="3645000"/>
              <a:ext cx="714204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549080" y="2439720"/>
            <a:ext cx="71485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89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dt" idx="28"/>
          </p:nvPr>
        </p:nvSpPr>
        <p:spPr>
          <a:xfrm>
            <a:off x="134568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ftr" idx="29"/>
          </p:nvPr>
        </p:nvSpPr>
        <p:spPr>
          <a:xfrm>
            <a:off x="4110120" y="6244920"/>
            <a:ext cx="180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sldNum" idx="30"/>
          </p:nvPr>
        </p:nvSpPr>
        <p:spPr>
          <a:xfrm>
            <a:off x="6875640" y="6244920"/>
            <a:ext cx="180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ADC39-B03D-4D01-B537-768DDB063C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3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74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e7d8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5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6" name=""/>
          <p:cNvSpPr/>
          <p:nvPr/>
        </p:nvSpPr>
        <p:spPr>
          <a:xfrm>
            <a:off x="1015920" y="1600200"/>
            <a:ext cx="7747200" cy="0"/>
          </a:xfrm>
          <a:prstGeom prst="line">
            <a:avLst/>
          </a:prstGeom>
          <a:ln w="3240">
            <a:solidFill>
              <a:srgbClr val="a08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dt" idx="3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08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ftr" idx="3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08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3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B12B6-20F2-4339-A8F1-171EEFCA2D14}" type="slidenum">
              <a:rPr b="0" lang="zh-CN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body"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402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402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519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0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dt" idx="3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08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ftr" idx="3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08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sldNum" idx="3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325E0-9A66-4BFE-8BCF-720AD9BAB7D2}" type="slidenum">
              <a:rPr b="0" lang="zh-CN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973080" y="3141720"/>
            <a:ext cx="777564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FA8DB-3968-4173-94D9-C13C4DE2AE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3240" y="0"/>
            <a:ext cx="9137520" cy="6853320"/>
            <a:chOff x="3240" y="0"/>
            <a:chExt cx="9137520" cy="6853320"/>
          </a:xfrm>
        </p:grpSpPr>
        <p:sp>
          <p:nvSpPr>
            <p:cNvPr id="83" name="未知"/>
            <p:cNvSpPr/>
            <p:nvPr/>
          </p:nvSpPr>
          <p:spPr>
            <a:xfrm>
              <a:off x="3240" y="0"/>
              <a:ext cx="8391600" cy="2222640"/>
            </a:xfrm>
            <a:custGeom>
              <a:avLst/>
              <a:gdLst/>
              <a:ahLst/>
              <a:rect l="l" t="t" r="r" b="b"/>
              <a:pathLst>
                <a:path w="15857" h="4199">
                  <a:moveTo>
                    <a:pt x="0" y="4199"/>
                  </a:moveTo>
                  <a:lnTo>
                    <a:pt x="112" y="3894"/>
                  </a:lnTo>
                  <a:lnTo>
                    <a:pt x="252" y="3603"/>
                  </a:lnTo>
                  <a:lnTo>
                    <a:pt x="421" y="3327"/>
                  </a:lnTo>
                  <a:lnTo>
                    <a:pt x="618" y="3066"/>
                  </a:lnTo>
                  <a:lnTo>
                    <a:pt x="843" y="2817"/>
                  </a:lnTo>
                  <a:lnTo>
                    <a:pt x="1096" y="2582"/>
                  </a:lnTo>
                  <a:lnTo>
                    <a:pt x="1375" y="2360"/>
                  </a:lnTo>
                  <a:lnTo>
                    <a:pt x="1681" y="2151"/>
                  </a:lnTo>
                  <a:lnTo>
                    <a:pt x="2014" y="1953"/>
                  </a:lnTo>
                  <a:lnTo>
                    <a:pt x="2371" y="1768"/>
                  </a:lnTo>
                  <a:lnTo>
                    <a:pt x="2754" y="1594"/>
                  </a:lnTo>
                  <a:lnTo>
                    <a:pt x="3163" y="1432"/>
                  </a:lnTo>
                  <a:lnTo>
                    <a:pt x="3595" y="1280"/>
                  </a:lnTo>
                  <a:lnTo>
                    <a:pt x="4052" y="1140"/>
                  </a:lnTo>
                  <a:lnTo>
                    <a:pt x="4531" y="1009"/>
                  </a:lnTo>
                  <a:lnTo>
                    <a:pt x="5034" y="888"/>
                  </a:lnTo>
                  <a:lnTo>
                    <a:pt x="5559" y="776"/>
                  </a:lnTo>
                  <a:lnTo>
                    <a:pt x="6107" y="673"/>
                  </a:lnTo>
                  <a:lnTo>
                    <a:pt x="6676" y="580"/>
                  </a:lnTo>
                  <a:lnTo>
                    <a:pt x="7267" y="495"/>
                  </a:lnTo>
                  <a:lnTo>
                    <a:pt x="7879" y="417"/>
                  </a:lnTo>
                  <a:lnTo>
                    <a:pt x="8511" y="348"/>
                  </a:lnTo>
                  <a:lnTo>
                    <a:pt x="9162" y="286"/>
                  </a:lnTo>
                  <a:lnTo>
                    <a:pt x="9834" y="231"/>
                  </a:lnTo>
                  <a:lnTo>
                    <a:pt x="10525" y="183"/>
                  </a:lnTo>
                  <a:lnTo>
                    <a:pt x="11234" y="140"/>
                  </a:lnTo>
                  <a:lnTo>
                    <a:pt x="11961" y="104"/>
                  </a:lnTo>
                  <a:lnTo>
                    <a:pt x="12707" y="73"/>
                  </a:lnTo>
                  <a:lnTo>
                    <a:pt x="13469" y="48"/>
                  </a:lnTo>
                  <a:lnTo>
                    <a:pt x="14249" y="27"/>
                  </a:lnTo>
                  <a:lnTo>
                    <a:pt x="15045" y="12"/>
                  </a:lnTo>
                  <a:lnTo>
                    <a:pt x="15857" y="0"/>
                  </a:lnTo>
                  <a:lnTo>
                    <a:pt x="0" y="0"/>
                  </a:lnTo>
                  <a:lnTo>
                    <a:pt x="0" y="4199"/>
                  </a:lnTo>
                  <a:close/>
                </a:path>
              </a:pathLst>
            </a:custGeom>
            <a:solidFill>
              <a:srgbClr val="7096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未知"/>
            <p:cNvSpPr/>
            <p:nvPr/>
          </p:nvSpPr>
          <p:spPr>
            <a:xfrm>
              <a:off x="3240" y="0"/>
              <a:ext cx="8391600" cy="1836720"/>
            </a:xfrm>
            <a:custGeom>
              <a:avLst/>
              <a:gdLst/>
              <a:ahLst/>
              <a:rect l="l" t="t" r="r" b="b"/>
              <a:pathLst>
                <a:path w="15857" h="3472">
                  <a:moveTo>
                    <a:pt x="0" y="3472"/>
                  </a:moveTo>
                  <a:lnTo>
                    <a:pt x="123" y="3202"/>
                  </a:lnTo>
                  <a:lnTo>
                    <a:pt x="272" y="2945"/>
                  </a:lnTo>
                  <a:lnTo>
                    <a:pt x="449" y="2703"/>
                  </a:lnTo>
                  <a:lnTo>
                    <a:pt x="652" y="2475"/>
                  </a:lnTo>
                  <a:lnTo>
                    <a:pt x="883" y="2260"/>
                  </a:lnTo>
                  <a:lnTo>
                    <a:pt x="1140" y="2059"/>
                  </a:lnTo>
                  <a:lnTo>
                    <a:pt x="1423" y="1869"/>
                  </a:lnTo>
                  <a:lnTo>
                    <a:pt x="1732" y="1692"/>
                  </a:lnTo>
                  <a:lnTo>
                    <a:pt x="2065" y="1526"/>
                  </a:lnTo>
                  <a:lnTo>
                    <a:pt x="2424" y="1373"/>
                  </a:lnTo>
                  <a:lnTo>
                    <a:pt x="2807" y="1229"/>
                  </a:lnTo>
                  <a:lnTo>
                    <a:pt x="3215" y="1096"/>
                  </a:lnTo>
                  <a:lnTo>
                    <a:pt x="3647" y="974"/>
                  </a:lnTo>
                  <a:lnTo>
                    <a:pt x="4101" y="861"/>
                  </a:lnTo>
                  <a:lnTo>
                    <a:pt x="4579" y="757"/>
                  </a:lnTo>
                  <a:lnTo>
                    <a:pt x="5079" y="662"/>
                  </a:lnTo>
                  <a:lnTo>
                    <a:pt x="5601" y="576"/>
                  </a:lnTo>
                  <a:lnTo>
                    <a:pt x="6146" y="497"/>
                  </a:lnTo>
                  <a:lnTo>
                    <a:pt x="6712" y="426"/>
                  </a:lnTo>
                  <a:lnTo>
                    <a:pt x="7298" y="362"/>
                  </a:lnTo>
                  <a:lnTo>
                    <a:pt x="7906" y="305"/>
                  </a:lnTo>
                  <a:lnTo>
                    <a:pt x="8535" y="254"/>
                  </a:lnTo>
                  <a:lnTo>
                    <a:pt x="9183" y="208"/>
                  </a:lnTo>
                  <a:lnTo>
                    <a:pt x="9851" y="169"/>
                  </a:lnTo>
                  <a:lnTo>
                    <a:pt x="10538" y="134"/>
                  </a:lnTo>
                  <a:lnTo>
                    <a:pt x="11244" y="105"/>
                  </a:lnTo>
                  <a:lnTo>
                    <a:pt x="11969" y="79"/>
                  </a:lnTo>
                  <a:lnTo>
                    <a:pt x="12712" y="57"/>
                  </a:lnTo>
                  <a:lnTo>
                    <a:pt x="13472" y="39"/>
                  </a:lnTo>
                  <a:lnTo>
                    <a:pt x="14250" y="24"/>
                  </a:lnTo>
                  <a:lnTo>
                    <a:pt x="15046" y="11"/>
                  </a:lnTo>
                  <a:lnTo>
                    <a:pt x="15857" y="0"/>
                  </a:lnTo>
                  <a:lnTo>
                    <a:pt x="0" y="0"/>
                  </a:lnTo>
                  <a:lnTo>
                    <a:pt x="0" y="3472"/>
                  </a:lnTo>
                  <a:close/>
                </a:path>
              </a:pathLst>
            </a:custGeom>
            <a:solidFill>
              <a:srgbClr val="495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未知"/>
            <p:cNvSpPr/>
            <p:nvPr/>
          </p:nvSpPr>
          <p:spPr>
            <a:xfrm>
              <a:off x="5191200" y="5148360"/>
              <a:ext cx="3949560" cy="1704960"/>
            </a:xfrm>
            <a:custGeom>
              <a:avLst/>
              <a:gdLst/>
              <a:ahLst/>
              <a:rect l="l" t="t" r="r" b="b"/>
              <a:pathLst>
                <a:path w="7465" h="3223">
                  <a:moveTo>
                    <a:pt x="7465" y="0"/>
                  </a:moveTo>
                  <a:lnTo>
                    <a:pt x="7413" y="235"/>
                  </a:lnTo>
                  <a:lnTo>
                    <a:pt x="7347" y="457"/>
                  </a:lnTo>
                  <a:lnTo>
                    <a:pt x="7267" y="670"/>
                  </a:lnTo>
                  <a:lnTo>
                    <a:pt x="7174" y="871"/>
                  </a:lnTo>
                  <a:lnTo>
                    <a:pt x="7068" y="1061"/>
                  </a:lnTo>
                  <a:lnTo>
                    <a:pt x="6949" y="1241"/>
                  </a:lnTo>
                  <a:lnTo>
                    <a:pt x="6818" y="1412"/>
                  </a:lnTo>
                  <a:lnTo>
                    <a:pt x="6674" y="1573"/>
                  </a:lnTo>
                  <a:lnTo>
                    <a:pt x="6517" y="1724"/>
                  </a:lnTo>
                  <a:lnTo>
                    <a:pt x="6349" y="1867"/>
                  </a:lnTo>
                  <a:lnTo>
                    <a:pt x="6169" y="2000"/>
                  </a:lnTo>
                  <a:lnTo>
                    <a:pt x="5976" y="2125"/>
                  </a:lnTo>
                  <a:lnTo>
                    <a:pt x="5773" y="2240"/>
                  </a:lnTo>
                  <a:lnTo>
                    <a:pt x="5558" y="2350"/>
                  </a:lnTo>
                  <a:lnTo>
                    <a:pt x="5332" y="2450"/>
                  </a:lnTo>
                  <a:lnTo>
                    <a:pt x="5095" y="2543"/>
                  </a:lnTo>
                  <a:lnTo>
                    <a:pt x="4848" y="2628"/>
                  </a:lnTo>
                  <a:lnTo>
                    <a:pt x="4590" y="2707"/>
                  </a:lnTo>
                  <a:lnTo>
                    <a:pt x="4322" y="2778"/>
                  </a:lnTo>
                  <a:lnTo>
                    <a:pt x="4044" y="2844"/>
                  </a:lnTo>
                  <a:lnTo>
                    <a:pt x="3756" y="2904"/>
                  </a:lnTo>
                  <a:lnTo>
                    <a:pt x="3459" y="2957"/>
                  </a:lnTo>
                  <a:lnTo>
                    <a:pt x="3151" y="3004"/>
                  </a:lnTo>
                  <a:lnTo>
                    <a:pt x="2836" y="3046"/>
                  </a:lnTo>
                  <a:lnTo>
                    <a:pt x="2511" y="3084"/>
                  </a:lnTo>
                  <a:lnTo>
                    <a:pt x="2176" y="3117"/>
                  </a:lnTo>
                  <a:lnTo>
                    <a:pt x="1833" y="3144"/>
                  </a:lnTo>
                  <a:lnTo>
                    <a:pt x="1482" y="3167"/>
                  </a:lnTo>
                  <a:lnTo>
                    <a:pt x="1124" y="3187"/>
                  </a:lnTo>
                  <a:lnTo>
                    <a:pt x="757" y="3203"/>
                  </a:lnTo>
                  <a:lnTo>
                    <a:pt x="382" y="3215"/>
                  </a:lnTo>
                  <a:lnTo>
                    <a:pt x="0" y="3223"/>
                  </a:lnTo>
                  <a:lnTo>
                    <a:pt x="7465" y="3223"/>
                  </a:lnTo>
                  <a:lnTo>
                    <a:pt x="7465" y="0"/>
                  </a:lnTo>
                  <a:close/>
                </a:path>
              </a:pathLst>
            </a:custGeom>
            <a:solidFill>
              <a:srgbClr val="aeb8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未知"/>
            <p:cNvSpPr/>
            <p:nvPr/>
          </p:nvSpPr>
          <p:spPr>
            <a:xfrm>
              <a:off x="5191200" y="5443560"/>
              <a:ext cx="3949560" cy="1409760"/>
            </a:xfrm>
            <a:custGeom>
              <a:avLst/>
              <a:gdLst/>
              <a:ahLst/>
              <a:rect l="l" t="t" r="r" b="b"/>
              <a:pathLst>
                <a:path w="7465" h="2664">
                  <a:moveTo>
                    <a:pt x="7465" y="0"/>
                  </a:moveTo>
                  <a:lnTo>
                    <a:pt x="7407" y="207"/>
                  </a:lnTo>
                  <a:lnTo>
                    <a:pt x="7337" y="404"/>
                  </a:lnTo>
                  <a:lnTo>
                    <a:pt x="7254" y="589"/>
                  </a:lnTo>
                  <a:lnTo>
                    <a:pt x="7158" y="764"/>
                  </a:lnTo>
                  <a:lnTo>
                    <a:pt x="7050" y="930"/>
                  </a:lnTo>
                  <a:lnTo>
                    <a:pt x="6929" y="1084"/>
                  </a:lnTo>
                  <a:lnTo>
                    <a:pt x="6795" y="1230"/>
                  </a:lnTo>
                  <a:lnTo>
                    <a:pt x="6650" y="1366"/>
                  </a:lnTo>
                  <a:lnTo>
                    <a:pt x="6493" y="1492"/>
                  </a:lnTo>
                  <a:lnTo>
                    <a:pt x="6324" y="1611"/>
                  </a:lnTo>
                  <a:lnTo>
                    <a:pt x="6144" y="1721"/>
                  </a:lnTo>
                  <a:lnTo>
                    <a:pt x="5951" y="1823"/>
                  </a:lnTo>
                  <a:lnTo>
                    <a:pt x="5748" y="1917"/>
                  </a:lnTo>
                  <a:lnTo>
                    <a:pt x="5535" y="2004"/>
                  </a:lnTo>
                  <a:lnTo>
                    <a:pt x="5310" y="2083"/>
                  </a:lnTo>
                  <a:lnTo>
                    <a:pt x="5074" y="2157"/>
                  </a:lnTo>
                  <a:lnTo>
                    <a:pt x="4828" y="2223"/>
                  </a:lnTo>
                  <a:lnTo>
                    <a:pt x="4572" y="2283"/>
                  </a:lnTo>
                  <a:lnTo>
                    <a:pt x="4306" y="2338"/>
                  </a:lnTo>
                  <a:lnTo>
                    <a:pt x="4029" y="2387"/>
                  </a:lnTo>
                  <a:lnTo>
                    <a:pt x="3743" y="2431"/>
                  </a:lnTo>
                  <a:lnTo>
                    <a:pt x="3447" y="2470"/>
                  </a:lnTo>
                  <a:lnTo>
                    <a:pt x="3142" y="2505"/>
                  </a:lnTo>
                  <a:lnTo>
                    <a:pt x="2827" y="2535"/>
                  </a:lnTo>
                  <a:lnTo>
                    <a:pt x="2504" y="2562"/>
                  </a:lnTo>
                  <a:lnTo>
                    <a:pt x="2171" y="2585"/>
                  </a:lnTo>
                  <a:lnTo>
                    <a:pt x="1830" y="2604"/>
                  </a:lnTo>
                  <a:lnTo>
                    <a:pt x="1480" y="2621"/>
                  </a:lnTo>
                  <a:lnTo>
                    <a:pt x="1123" y="2635"/>
                  </a:lnTo>
                  <a:lnTo>
                    <a:pt x="756" y="2647"/>
                  </a:lnTo>
                  <a:lnTo>
                    <a:pt x="382" y="2657"/>
                  </a:lnTo>
                  <a:lnTo>
                    <a:pt x="0" y="2664"/>
                  </a:lnTo>
                  <a:lnTo>
                    <a:pt x="7465" y="2664"/>
                  </a:lnTo>
                  <a:lnTo>
                    <a:pt x="7465" y="0"/>
                  </a:lnTo>
                  <a:close/>
                </a:path>
              </a:pathLst>
            </a:custGeom>
            <a:solidFill>
              <a:srgbClr val="8e84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56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1565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AB6DF-56C8-495D-8A10-11B16D58DB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0" y="1440"/>
            <a:ext cx="9131400" cy="6843960"/>
            <a:chOff x="0" y="1440"/>
            <a:chExt cx="9131400" cy="6843960"/>
          </a:xfrm>
        </p:grpSpPr>
        <p:sp>
          <p:nvSpPr>
            <p:cNvPr id="129" name=""/>
            <p:cNvSpPr/>
            <p:nvPr/>
          </p:nvSpPr>
          <p:spPr>
            <a:xfrm>
              <a:off x="0" y="1440"/>
              <a:ext cx="9128160" cy="6843960"/>
            </a:xfrm>
            <a:prstGeom prst="rect">
              <a:avLst/>
            </a:prstGeom>
            <a:noFill/>
            <a:ln w="14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未知"/>
            <p:cNvSpPr/>
            <p:nvPr/>
          </p:nvSpPr>
          <p:spPr>
            <a:xfrm>
              <a:off x="4680" y="1454040"/>
              <a:ext cx="9126720" cy="5389560"/>
            </a:xfrm>
            <a:custGeom>
              <a:avLst/>
              <a:gdLst/>
              <a:ahLst/>
              <a:rect l="l" t="t" r="r" b="b"/>
              <a:pathLst>
                <a:path w="17249" h="10185">
                  <a:moveTo>
                    <a:pt x="0" y="0"/>
                  </a:moveTo>
                  <a:lnTo>
                    <a:pt x="121" y="741"/>
                  </a:lnTo>
                  <a:lnTo>
                    <a:pt x="273" y="1445"/>
                  </a:lnTo>
                  <a:lnTo>
                    <a:pt x="456" y="2114"/>
                  </a:lnTo>
                  <a:lnTo>
                    <a:pt x="671" y="2750"/>
                  </a:lnTo>
                  <a:lnTo>
                    <a:pt x="916" y="3353"/>
                  </a:lnTo>
                  <a:lnTo>
                    <a:pt x="1191" y="3923"/>
                  </a:lnTo>
                  <a:lnTo>
                    <a:pt x="1495" y="4461"/>
                  </a:lnTo>
                  <a:lnTo>
                    <a:pt x="1828" y="4969"/>
                  </a:lnTo>
                  <a:lnTo>
                    <a:pt x="2190" y="5448"/>
                  </a:lnTo>
                  <a:lnTo>
                    <a:pt x="2579" y="5897"/>
                  </a:lnTo>
                  <a:lnTo>
                    <a:pt x="2995" y="6318"/>
                  </a:lnTo>
                  <a:lnTo>
                    <a:pt x="3439" y="6711"/>
                  </a:lnTo>
                  <a:lnTo>
                    <a:pt x="3910" y="7079"/>
                  </a:lnTo>
                  <a:lnTo>
                    <a:pt x="4406" y="7421"/>
                  </a:lnTo>
                  <a:lnTo>
                    <a:pt x="4928" y="7738"/>
                  </a:lnTo>
                  <a:lnTo>
                    <a:pt x="5475" y="8032"/>
                  </a:lnTo>
                  <a:lnTo>
                    <a:pt x="6046" y="8303"/>
                  </a:lnTo>
                  <a:lnTo>
                    <a:pt x="6643" y="8551"/>
                  </a:lnTo>
                  <a:lnTo>
                    <a:pt x="7261" y="8778"/>
                  </a:lnTo>
                  <a:lnTo>
                    <a:pt x="7904" y="8985"/>
                  </a:lnTo>
                  <a:lnTo>
                    <a:pt x="8569" y="9172"/>
                  </a:lnTo>
                  <a:lnTo>
                    <a:pt x="9257" y="9341"/>
                  </a:lnTo>
                  <a:lnTo>
                    <a:pt x="9966" y="9492"/>
                  </a:lnTo>
                  <a:lnTo>
                    <a:pt x="10697" y="9626"/>
                  </a:lnTo>
                  <a:lnTo>
                    <a:pt x="11448" y="9742"/>
                  </a:lnTo>
                  <a:lnTo>
                    <a:pt x="12220" y="9845"/>
                  </a:lnTo>
                  <a:lnTo>
                    <a:pt x="13011" y="9932"/>
                  </a:lnTo>
                  <a:lnTo>
                    <a:pt x="13821" y="10007"/>
                  </a:lnTo>
                  <a:lnTo>
                    <a:pt x="14652" y="10068"/>
                  </a:lnTo>
                  <a:lnTo>
                    <a:pt x="15500" y="10118"/>
                  </a:lnTo>
                  <a:lnTo>
                    <a:pt x="16366" y="10156"/>
                  </a:lnTo>
                  <a:lnTo>
                    <a:pt x="17249" y="10185"/>
                  </a:lnTo>
                  <a:lnTo>
                    <a:pt x="0" y="101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96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未知"/>
            <p:cNvSpPr/>
            <p:nvPr/>
          </p:nvSpPr>
          <p:spPr>
            <a:xfrm>
              <a:off x="4680" y="2389320"/>
              <a:ext cx="9126720" cy="4454280"/>
            </a:xfrm>
            <a:custGeom>
              <a:avLst/>
              <a:gdLst/>
              <a:ahLst/>
              <a:rect l="l" t="t" r="r" b="b"/>
              <a:pathLst>
                <a:path w="17249" h="8420">
                  <a:moveTo>
                    <a:pt x="0" y="0"/>
                  </a:moveTo>
                  <a:lnTo>
                    <a:pt x="132" y="656"/>
                  </a:lnTo>
                  <a:lnTo>
                    <a:pt x="294" y="1277"/>
                  </a:lnTo>
                  <a:lnTo>
                    <a:pt x="487" y="1863"/>
                  </a:lnTo>
                  <a:lnTo>
                    <a:pt x="708" y="2417"/>
                  </a:lnTo>
                  <a:lnTo>
                    <a:pt x="960" y="2938"/>
                  </a:lnTo>
                  <a:lnTo>
                    <a:pt x="1239" y="3427"/>
                  </a:lnTo>
                  <a:lnTo>
                    <a:pt x="1547" y="3886"/>
                  </a:lnTo>
                  <a:lnTo>
                    <a:pt x="1883" y="4316"/>
                  </a:lnTo>
                  <a:lnTo>
                    <a:pt x="2246" y="4717"/>
                  </a:lnTo>
                  <a:lnTo>
                    <a:pt x="2636" y="5091"/>
                  </a:lnTo>
                  <a:lnTo>
                    <a:pt x="3053" y="5438"/>
                  </a:lnTo>
                  <a:lnTo>
                    <a:pt x="3497" y="5760"/>
                  </a:lnTo>
                  <a:lnTo>
                    <a:pt x="3965" y="6057"/>
                  </a:lnTo>
                  <a:lnTo>
                    <a:pt x="4460" y="6332"/>
                  </a:lnTo>
                  <a:lnTo>
                    <a:pt x="4979" y="6583"/>
                  </a:lnTo>
                  <a:lnTo>
                    <a:pt x="5524" y="6814"/>
                  </a:lnTo>
                  <a:lnTo>
                    <a:pt x="6092" y="7024"/>
                  </a:lnTo>
                  <a:lnTo>
                    <a:pt x="6685" y="7215"/>
                  </a:lnTo>
                  <a:lnTo>
                    <a:pt x="7300" y="7388"/>
                  </a:lnTo>
                  <a:lnTo>
                    <a:pt x="7939" y="7543"/>
                  </a:lnTo>
                  <a:lnTo>
                    <a:pt x="8600" y="7681"/>
                  </a:lnTo>
                  <a:lnTo>
                    <a:pt x="9283" y="7806"/>
                  </a:lnTo>
                  <a:lnTo>
                    <a:pt x="9988" y="7915"/>
                  </a:lnTo>
                  <a:lnTo>
                    <a:pt x="10715" y="8010"/>
                  </a:lnTo>
                  <a:lnTo>
                    <a:pt x="11463" y="8094"/>
                  </a:lnTo>
                  <a:lnTo>
                    <a:pt x="12231" y="8166"/>
                  </a:lnTo>
                  <a:lnTo>
                    <a:pt x="13019" y="8228"/>
                  </a:lnTo>
                  <a:lnTo>
                    <a:pt x="13827" y="8281"/>
                  </a:lnTo>
                  <a:lnTo>
                    <a:pt x="14654" y="8325"/>
                  </a:lnTo>
                  <a:lnTo>
                    <a:pt x="15501" y="8363"/>
                  </a:lnTo>
                  <a:lnTo>
                    <a:pt x="16366" y="8394"/>
                  </a:lnTo>
                  <a:lnTo>
                    <a:pt x="17249" y="8420"/>
                  </a:lnTo>
                  <a:lnTo>
                    <a:pt x="0" y="84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95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未知"/>
            <p:cNvSpPr/>
            <p:nvPr/>
          </p:nvSpPr>
          <p:spPr>
            <a:xfrm>
              <a:off x="3135240" y="4680"/>
              <a:ext cx="5989680" cy="3086280"/>
            </a:xfrm>
            <a:custGeom>
              <a:avLst/>
              <a:gdLst/>
              <a:ahLst/>
              <a:rect l="l" t="t" r="r" b="b"/>
              <a:pathLst>
                <a:path w="11319" h="5832">
                  <a:moveTo>
                    <a:pt x="11319" y="5832"/>
                  </a:moveTo>
                  <a:lnTo>
                    <a:pt x="11239" y="5407"/>
                  </a:lnTo>
                  <a:lnTo>
                    <a:pt x="11140" y="5004"/>
                  </a:lnTo>
                  <a:lnTo>
                    <a:pt x="11019" y="4621"/>
                  </a:lnTo>
                  <a:lnTo>
                    <a:pt x="10879" y="4257"/>
                  </a:lnTo>
                  <a:lnTo>
                    <a:pt x="10718" y="3912"/>
                  </a:lnTo>
                  <a:lnTo>
                    <a:pt x="10537" y="3586"/>
                  </a:lnTo>
                  <a:lnTo>
                    <a:pt x="10338" y="3277"/>
                  </a:lnTo>
                  <a:lnTo>
                    <a:pt x="10119" y="2986"/>
                  </a:lnTo>
                  <a:lnTo>
                    <a:pt x="9882" y="2712"/>
                  </a:lnTo>
                  <a:lnTo>
                    <a:pt x="9627" y="2455"/>
                  </a:lnTo>
                  <a:lnTo>
                    <a:pt x="9353" y="2214"/>
                  </a:lnTo>
                  <a:lnTo>
                    <a:pt x="9062" y="1989"/>
                  </a:lnTo>
                  <a:lnTo>
                    <a:pt x="8753" y="1778"/>
                  </a:lnTo>
                  <a:lnTo>
                    <a:pt x="8427" y="1583"/>
                  </a:lnTo>
                  <a:lnTo>
                    <a:pt x="8085" y="1400"/>
                  </a:lnTo>
                  <a:lnTo>
                    <a:pt x="7726" y="1233"/>
                  </a:lnTo>
                  <a:lnTo>
                    <a:pt x="7351" y="1077"/>
                  </a:lnTo>
                  <a:lnTo>
                    <a:pt x="6960" y="935"/>
                  </a:lnTo>
                  <a:lnTo>
                    <a:pt x="6553" y="805"/>
                  </a:lnTo>
                  <a:lnTo>
                    <a:pt x="6132" y="686"/>
                  </a:lnTo>
                  <a:lnTo>
                    <a:pt x="5696" y="579"/>
                  </a:lnTo>
                  <a:lnTo>
                    <a:pt x="5244" y="483"/>
                  </a:lnTo>
                  <a:lnTo>
                    <a:pt x="4779" y="397"/>
                  </a:lnTo>
                  <a:lnTo>
                    <a:pt x="4299" y="320"/>
                  </a:lnTo>
                  <a:lnTo>
                    <a:pt x="3807" y="253"/>
                  </a:lnTo>
                  <a:lnTo>
                    <a:pt x="3300" y="194"/>
                  </a:lnTo>
                  <a:lnTo>
                    <a:pt x="2781" y="144"/>
                  </a:lnTo>
                  <a:lnTo>
                    <a:pt x="2250" y="101"/>
                  </a:lnTo>
                  <a:lnTo>
                    <a:pt x="1704" y="67"/>
                  </a:lnTo>
                  <a:lnTo>
                    <a:pt x="1148" y="38"/>
                  </a:lnTo>
                  <a:lnTo>
                    <a:pt x="580" y="16"/>
                  </a:lnTo>
                  <a:lnTo>
                    <a:pt x="0" y="0"/>
                  </a:lnTo>
                  <a:lnTo>
                    <a:pt x="11319" y="0"/>
                  </a:lnTo>
                  <a:lnTo>
                    <a:pt x="11319" y="5832"/>
                  </a:lnTo>
                  <a:close/>
                </a:path>
              </a:pathLst>
            </a:custGeom>
            <a:solidFill>
              <a:srgbClr val="aeb8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未知"/>
            <p:cNvSpPr/>
            <p:nvPr/>
          </p:nvSpPr>
          <p:spPr>
            <a:xfrm>
              <a:off x="3135240" y="4680"/>
              <a:ext cx="5989680" cy="2551320"/>
            </a:xfrm>
            <a:custGeom>
              <a:avLst/>
              <a:gdLst/>
              <a:ahLst/>
              <a:rect l="l" t="t" r="r" b="b"/>
              <a:pathLst>
                <a:path w="11319" h="4822">
                  <a:moveTo>
                    <a:pt x="11319" y="4822"/>
                  </a:moveTo>
                  <a:lnTo>
                    <a:pt x="11232" y="4446"/>
                  </a:lnTo>
                  <a:lnTo>
                    <a:pt x="11126" y="4090"/>
                  </a:lnTo>
                  <a:lnTo>
                    <a:pt x="11000" y="3754"/>
                  </a:lnTo>
                  <a:lnTo>
                    <a:pt x="10854" y="3438"/>
                  </a:lnTo>
                  <a:lnTo>
                    <a:pt x="10689" y="3139"/>
                  </a:lnTo>
                  <a:lnTo>
                    <a:pt x="10506" y="2859"/>
                  </a:lnTo>
                  <a:lnTo>
                    <a:pt x="10304" y="2595"/>
                  </a:lnTo>
                  <a:lnTo>
                    <a:pt x="10084" y="2350"/>
                  </a:lnTo>
                  <a:lnTo>
                    <a:pt x="9845" y="2120"/>
                  </a:lnTo>
                  <a:lnTo>
                    <a:pt x="9589" y="1907"/>
                  </a:lnTo>
                  <a:lnTo>
                    <a:pt x="9315" y="1707"/>
                  </a:lnTo>
                  <a:lnTo>
                    <a:pt x="9024" y="1523"/>
                  </a:lnTo>
                  <a:lnTo>
                    <a:pt x="8717" y="1353"/>
                  </a:lnTo>
                  <a:lnTo>
                    <a:pt x="8393" y="1195"/>
                  </a:lnTo>
                  <a:lnTo>
                    <a:pt x="8051" y="1051"/>
                  </a:lnTo>
                  <a:lnTo>
                    <a:pt x="7694" y="920"/>
                  </a:lnTo>
                  <a:lnTo>
                    <a:pt x="7321" y="799"/>
                  </a:lnTo>
                  <a:lnTo>
                    <a:pt x="6932" y="690"/>
                  </a:lnTo>
                  <a:lnTo>
                    <a:pt x="6528" y="590"/>
                  </a:lnTo>
                  <a:lnTo>
                    <a:pt x="6109" y="502"/>
                  </a:lnTo>
                  <a:lnTo>
                    <a:pt x="5675" y="423"/>
                  </a:lnTo>
                  <a:lnTo>
                    <a:pt x="5227" y="352"/>
                  </a:lnTo>
                  <a:lnTo>
                    <a:pt x="4765" y="289"/>
                  </a:lnTo>
                  <a:lnTo>
                    <a:pt x="4287" y="234"/>
                  </a:lnTo>
                  <a:lnTo>
                    <a:pt x="3797" y="186"/>
                  </a:lnTo>
                  <a:lnTo>
                    <a:pt x="3293" y="145"/>
                  </a:lnTo>
                  <a:lnTo>
                    <a:pt x="2775" y="110"/>
                  </a:lnTo>
                  <a:lnTo>
                    <a:pt x="2245" y="79"/>
                  </a:lnTo>
                  <a:lnTo>
                    <a:pt x="1703" y="54"/>
                  </a:lnTo>
                  <a:lnTo>
                    <a:pt x="1147" y="32"/>
                  </a:lnTo>
                  <a:lnTo>
                    <a:pt x="580" y="15"/>
                  </a:lnTo>
                  <a:lnTo>
                    <a:pt x="0" y="0"/>
                  </a:lnTo>
                  <a:lnTo>
                    <a:pt x="11319" y="0"/>
                  </a:lnTo>
                  <a:lnTo>
                    <a:pt x="11319" y="4822"/>
                  </a:lnTo>
                  <a:close/>
                </a:path>
              </a:pathLst>
            </a:custGeom>
            <a:solidFill>
              <a:srgbClr val="8e84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29480" y="6070680"/>
              <a:ext cx="270000" cy="361800"/>
            </a:xfrm>
            <a:prstGeom prst="rect">
              <a:avLst/>
            </a:prstGeom>
            <a:solidFill>
              <a:srgbClr val="42b0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991640" y="6070680"/>
              <a:ext cx="387360" cy="361800"/>
            </a:xfrm>
            <a:prstGeom prst="rect">
              <a:avLst/>
            </a:prstGeom>
            <a:solidFill>
              <a:srgbClr val="0092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353360" y="6070680"/>
              <a:ext cx="185760" cy="361800"/>
            </a:xfrm>
            <a:prstGeom prst="rect">
              <a:avLst/>
            </a:prstGeom>
            <a:solidFill>
              <a:srgbClr val="75c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未知"/>
            <p:cNvSpPr/>
            <p:nvPr/>
          </p:nvSpPr>
          <p:spPr>
            <a:xfrm>
              <a:off x="8488440" y="5872320"/>
              <a:ext cx="388800" cy="758520"/>
            </a:xfrm>
            <a:custGeom>
              <a:avLst/>
              <a:gdLst/>
              <a:ahLst/>
              <a:rect l="l" t="t" r="r" b="b"/>
              <a:pathLst>
                <a:path w="736" h="1435">
                  <a:moveTo>
                    <a:pt x="0" y="0"/>
                  </a:moveTo>
                  <a:lnTo>
                    <a:pt x="736" y="716"/>
                  </a:lnTo>
                  <a:lnTo>
                    <a:pt x="0" y="14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未知"/>
            <p:cNvSpPr/>
            <p:nvPr/>
          </p:nvSpPr>
          <p:spPr>
            <a:xfrm>
              <a:off x="1144440" y="334800"/>
              <a:ext cx="203400" cy="203400"/>
            </a:xfrm>
            <a:custGeom>
              <a:avLst/>
              <a:gdLst/>
              <a:ahLst/>
              <a:rect l="l" t="t" r="r" b="b"/>
              <a:pathLst>
                <a:path w="386" h="386">
                  <a:moveTo>
                    <a:pt x="386" y="193"/>
                  </a:moveTo>
                  <a:lnTo>
                    <a:pt x="386" y="174"/>
                  </a:lnTo>
                  <a:lnTo>
                    <a:pt x="382" y="154"/>
                  </a:lnTo>
                  <a:lnTo>
                    <a:pt x="377" y="136"/>
                  </a:lnTo>
                  <a:lnTo>
                    <a:pt x="371" y="117"/>
                  </a:lnTo>
                  <a:lnTo>
                    <a:pt x="363" y="101"/>
                  </a:lnTo>
                  <a:lnTo>
                    <a:pt x="353" y="85"/>
                  </a:lnTo>
                  <a:lnTo>
                    <a:pt x="343" y="70"/>
                  </a:lnTo>
                  <a:lnTo>
                    <a:pt x="330" y="56"/>
                  </a:lnTo>
                  <a:lnTo>
                    <a:pt x="316" y="44"/>
                  </a:lnTo>
                  <a:lnTo>
                    <a:pt x="300" y="32"/>
                  </a:lnTo>
                  <a:lnTo>
                    <a:pt x="285" y="23"/>
                  </a:lnTo>
                  <a:lnTo>
                    <a:pt x="268" y="15"/>
                  </a:lnTo>
                  <a:lnTo>
                    <a:pt x="251" y="8"/>
                  </a:lnTo>
                  <a:lnTo>
                    <a:pt x="232" y="4"/>
                  </a:lnTo>
                  <a:lnTo>
                    <a:pt x="213" y="1"/>
                  </a:lnTo>
                  <a:lnTo>
                    <a:pt x="193" y="0"/>
                  </a:lnTo>
                  <a:lnTo>
                    <a:pt x="173" y="1"/>
                  </a:lnTo>
                  <a:lnTo>
                    <a:pt x="155" y="4"/>
                  </a:lnTo>
                  <a:lnTo>
                    <a:pt x="135" y="8"/>
                  </a:lnTo>
                  <a:lnTo>
                    <a:pt x="118" y="15"/>
                  </a:lnTo>
                  <a:lnTo>
                    <a:pt x="101" y="23"/>
                  </a:lnTo>
                  <a:lnTo>
                    <a:pt x="85" y="32"/>
                  </a:lnTo>
                  <a:lnTo>
                    <a:pt x="70" y="44"/>
                  </a:lnTo>
                  <a:lnTo>
                    <a:pt x="56" y="56"/>
                  </a:lnTo>
                  <a:lnTo>
                    <a:pt x="44" y="70"/>
                  </a:lnTo>
                  <a:lnTo>
                    <a:pt x="33" y="85"/>
                  </a:lnTo>
                  <a:lnTo>
                    <a:pt x="23" y="101"/>
                  </a:lnTo>
                  <a:lnTo>
                    <a:pt x="15" y="117"/>
                  </a:lnTo>
                  <a:lnTo>
                    <a:pt x="9" y="136"/>
                  </a:lnTo>
                  <a:lnTo>
                    <a:pt x="3" y="154"/>
                  </a:lnTo>
                  <a:lnTo>
                    <a:pt x="1" y="174"/>
                  </a:lnTo>
                  <a:lnTo>
                    <a:pt x="0" y="193"/>
                  </a:lnTo>
                  <a:lnTo>
                    <a:pt x="1" y="212"/>
                  </a:lnTo>
                  <a:lnTo>
                    <a:pt x="3" y="232"/>
                  </a:lnTo>
                  <a:lnTo>
                    <a:pt x="9" y="250"/>
                  </a:lnTo>
                  <a:lnTo>
                    <a:pt x="15" y="267"/>
                  </a:lnTo>
                  <a:lnTo>
                    <a:pt x="23" y="285"/>
                  </a:lnTo>
                  <a:lnTo>
                    <a:pt x="33" y="301"/>
                  </a:lnTo>
                  <a:lnTo>
                    <a:pt x="44" y="315"/>
                  </a:lnTo>
                  <a:lnTo>
                    <a:pt x="56" y="329"/>
                  </a:lnTo>
                  <a:lnTo>
                    <a:pt x="70" y="342"/>
                  </a:lnTo>
                  <a:lnTo>
                    <a:pt x="85" y="353"/>
                  </a:lnTo>
                  <a:lnTo>
                    <a:pt x="101" y="363"/>
                  </a:lnTo>
                  <a:lnTo>
                    <a:pt x="118" y="371"/>
                  </a:lnTo>
                  <a:lnTo>
                    <a:pt x="135" y="378"/>
                  </a:lnTo>
                  <a:lnTo>
                    <a:pt x="155" y="382"/>
                  </a:lnTo>
                  <a:lnTo>
                    <a:pt x="173" y="385"/>
                  </a:lnTo>
                  <a:lnTo>
                    <a:pt x="193" y="386"/>
                  </a:lnTo>
                  <a:lnTo>
                    <a:pt x="213" y="385"/>
                  </a:lnTo>
                  <a:lnTo>
                    <a:pt x="232" y="382"/>
                  </a:lnTo>
                  <a:lnTo>
                    <a:pt x="251" y="378"/>
                  </a:lnTo>
                  <a:lnTo>
                    <a:pt x="268" y="371"/>
                  </a:lnTo>
                  <a:lnTo>
                    <a:pt x="285" y="363"/>
                  </a:lnTo>
                  <a:lnTo>
                    <a:pt x="300" y="353"/>
                  </a:lnTo>
                  <a:lnTo>
                    <a:pt x="316" y="342"/>
                  </a:lnTo>
                  <a:lnTo>
                    <a:pt x="330" y="329"/>
                  </a:lnTo>
                  <a:lnTo>
                    <a:pt x="343" y="315"/>
                  </a:lnTo>
                  <a:lnTo>
                    <a:pt x="353" y="301"/>
                  </a:lnTo>
                  <a:lnTo>
                    <a:pt x="363" y="285"/>
                  </a:lnTo>
                  <a:lnTo>
                    <a:pt x="371" y="267"/>
                  </a:lnTo>
                  <a:lnTo>
                    <a:pt x="377" y="250"/>
                  </a:lnTo>
                  <a:lnTo>
                    <a:pt x="382" y="232"/>
                  </a:lnTo>
                  <a:lnTo>
                    <a:pt x="386" y="212"/>
                  </a:lnTo>
                  <a:lnTo>
                    <a:pt x="386" y="193"/>
                  </a:lnTo>
                  <a:close/>
                </a:path>
              </a:pathLst>
            </a:custGeom>
            <a:solidFill>
              <a:srgbClr val="75c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未知"/>
            <p:cNvSpPr/>
            <p:nvPr/>
          </p:nvSpPr>
          <p:spPr>
            <a:xfrm>
              <a:off x="693720" y="314280"/>
              <a:ext cx="246240" cy="244440"/>
            </a:xfrm>
            <a:custGeom>
              <a:avLst/>
              <a:gdLst/>
              <a:ahLst/>
              <a:rect l="l" t="t" r="r" b="b"/>
              <a:pathLst>
                <a:path w="465" h="463">
                  <a:moveTo>
                    <a:pt x="465" y="232"/>
                  </a:moveTo>
                  <a:lnTo>
                    <a:pt x="465" y="220"/>
                  </a:lnTo>
                  <a:lnTo>
                    <a:pt x="464" y="208"/>
                  </a:lnTo>
                  <a:lnTo>
                    <a:pt x="461" y="196"/>
                  </a:lnTo>
                  <a:lnTo>
                    <a:pt x="460" y="186"/>
                  </a:lnTo>
                  <a:lnTo>
                    <a:pt x="457" y="174"/>
                  </a:lnTo>
                  <a:lnTo>
                    <a:pt x="454" y="163"/>
                  </a:lnTo>
                  <a:lnTo>
                    <a:pt x="451" y="152"/>
                  </a:lnTo>
                  <a:lnTo>
                    <a:pt x="446" y="141"/>
                  </a:lnTo>
                  <a:lnTo>
                    <a:pt x="442" y="132"/>
                  </a:lnTo>
                  <a:lnTo>
                    <a:pt x="437" y="122"/>
                  </a:lnTo>
                  <a:lnTo>
                    <a:pt x="431" y="112"/>
                  </a:lnTo>
                  <a:lnTo>
                    <a:pt x="425" y="102"/>
                  </a:lnTo>
                  <a:lnTo>
                    <a:pt x="412" y="84"/>
                  </a:lnTo>
                  <a:lnTo>
                    <a:pt x="397" y="68"/>
                  </a:lnTo>
                  <a:lnTo>
                    <a:pt x="380" y="53"/>
                  </a:lnTo>
                  <a:lnTo>
                    <a:pt x="362" y="40"/>
                  </a:lnTo>
                  <a:lnTo>
                    <a:pt x="352" y="33"/>
                  </a:lnTo>
                  <a:lnTo>
                    <a:pt x="343" y="28"/>
                  </a:lnTo>
                  <a:lnTo>
                    <a:pt x="333" y="22"/>
                  </a:lnTo>
                  <a:lnTo>
                    <a:pt x="323" y="18"/>
                  </a:lnTo>
                  <a:lnTo>
                    <a:pt x="312" y="14"/>
                  </a:lnTo>
                  <a:lnTo>
                    <a:pt x="302" y="11"/>
                  </a:lnTo>
                  <a:lnTo>
                    <a:pt x="291" y="7"/>
                  </a:lnTo>
                  <a:lnTo>
                    <a:pt x="279" y="4"/>
                  </a:lnTo>
                  <a:lnTo>
                    <a:pt x="268" y="3"/>
                  </a:lnTo>
                  <a:lnTo>
                    <a:pt x="256" y="1"/>
                  </a:lnTo>
                  <a:lnTo>
                    <a:pt x="244" y="0"/>
                  </a:lnTo>
                  <a:lnTo>
                    <a:pt x="232" y="0"/>
                  </a:lnTo>
                  <a:lnTo>
                    <a:pt x="221" y="0"/>
                  </a:lnTo>
                  <a:lnTo>
                    <a:pt x="209" y="1"/>
                  </a:lnTo>
                  <a:lnTo>
                    <a:pt x="198" y="3"/>
                  </a:lnTo>
                  <a:lnTo>
                    <a:pt x="186" y="4"/>
                  </a:lnTo>
                  <a:lnTo>
                    <a:pt x="175" y="7"/>
                  </a:lnTo>
                  <a:lnTo>
                    <a:pt x="163" y="11"/>
                  </a:lnTo>
                  <a:lnTo>
                    <a:pt x="152" y="14"/>
                  </a:lnTo>
                  <a:lnTo>
                    <a:pt x="143" y="18"/>
                  </a:lnTo>
                  <a:lnTo>
                    <a:pt x="132" y="22"/>
                  </a:lnTo>
                  <a:lnTo>
                    <a:pt x="122" y="28"/>
                  </a:lnTo>
                  <a:lnTo>
                    <a:pt x="113" y="33"/>
                  </a:lnTo>
                  <a:lnTo>
                    <a:pt x="103" y="40"/>
                  </a:lnTo>
                  <a:lnTo>
                    <a:pt x="86" y="53"/>
                  </a:lnTo>
                  <a:lnTo>
                    <a:pt x="68" y="68"/>
                  </a:lnTo>
                  <a:lnTo>
                    <a:pt x="54" y="84"/>
                  </a:lnTo>
                  <a:lnTo>
                    <a:pt x="40" y="102"/>
                  </a:lnTo>
                  <a:lnTo>
                    <a:pt x="35" y="112"/>
                  </a:lnTo>
                  <a:lnTo>
                    <a:pt x="28" y="122"/>
                  </a:lnTo>
                  <a:lnTo>
                    <a:pt x="24" y="132"/>
                  </a:lnTo>
                  <a:lnTo>
                    <a:pt x="19" y="141"/>
                  </a:lnTo>
                  <a:lnTo>
                    <a:pt x="15" y="152"/>
                  </a:lnTo>
                  <a:lnTo>
                    <a:pt x="11" y="163"/>
                  </a:lnTo>
                  <a:lnTo>
                    <a:pt x="8" y="174"/>
                  </a:lnTo>
                  <a:lnTo>
                    <a:pt x="6" y="186"/>
                  </a:lnTo>
                  <a:lnTo>
                    <a:pt x="3" y="196"/>
                  </a:lnTo>
                  <a:lnTo>
                    <a:pt x="2" y="208"/>
                  </a:lnTo>
                  <a:lnTo>
                    <a:pt x="1" y="220"/>
                  </a:lnTo>
                  <a:lnTo>
                    <a:pt x="0" y="232"/>
                  </a:lnTo>
                  <a:lnTo>
                    <a:pt x="1" y="244"/>
                  </a:lnTo>
                  <a:lnTo>
                    <a:pt x="2" y="256"/>
                  </a:lnTo>
                  <a:lnTo>
                    <a:pt x="3" y="267"/>
                  </a:lnTo>
                  <a:lnTo>
                    <a:pt x="6" y="278"/>
                  </a:lnTo>
                  <a:lnTo>
                    <a:pt x="8" y="289"/>
                  </a:lnTo>
                  <a:lnTo>
                    <a:pt x="11" y="301"/>
                  </a:lnTo>
                  <a:lnTo>
                    <a:pt x="15" y="311"/>
                  </a:lnTo>
                  <a:lnTo>
                    <a:pt x="19" y="322"/>
                  </a:lnTo>
                  <a:lnTo>
                    <a:pt x="24" y="332"/>
                  </a:lnTo>
                  <a:lnTo>
                    <a:pt x="28" y="342"/>
                  </a:lnTo>
                  <a:lnTo>
                    <a:pt x="35" y="352"/>
                  </a:lnTo>
                  <a:lnTo>
                    <a:pt x="40" y="362"/>
                  </a:lnTo>
                  <a:lnTo>
                    <a:pt x="54" y="379"/>
                  </a:lnTo>
                  <a:lnTo>
                    <a:pt x="68" y="395"/>
                  </a:lnTo>
                  <a:lnTo>
                    <a:pt x="86" y="410"/>
                  </a:lnTo>
                  <a:lnTo>
                    <a:pt x="103" y="424"/>
                  </a:lnTo>
                  <a:lnTo>
                    <a:pt x="113" y="430"/>
                  </a:lnTo>
                  <a:lnTo>
                    <a:pt x="122" y="436"/>
                  </a:lnTo>
                  <a:lnTo>
                    <a:pt x="132" y="440"/>
                  </a:lnTo>
                  <a:lnTo>
                    <a:pt x="143" y="446"/>
                  </a:lnTo>
                  <a:lnTo>
                    <a:pt x="152" y="449"/>
                  </a:lnTo>
                  <a:lnTo>
                    <a:pt x="163" y="453"/>
                  </a:lnTo>
                  <a:lnTo>
                    <a:pt x="175" y="457"/>
                  </a:lnTo>
                  <a:lnTo>
                    <a:pt x="186" y="459"/>
                  </a:lnTo>
                  <a:lnTo>
                    <a:pt x="198" y="461"/>
                  </a:lnTo>
                  <a:lnTo>
                    <a:pt x="209" y="462"/>
                  </a:lnTo>
                  <a:lnTo>
                    <a:pt x="221" y="463"/>
                  </a:lnTo>
                  <a:lnTo>
                    <a:pt x="232" y="463"/>
                  </a:lnTo>
                  <a:lnTo>
                    <a:pt x="244" y="463"/>
                  </a:lnTo>
                  <a:lnTo>
                    <a:pt x="256" y="462"/>
                  </a:lnTo>
                  <a:lnTo>
                    <a:pt x="268" y="461"/>
                  </a:lnTo>
                  <a:lnTo>
                    <a:pt x="279" y="459"/>
                  </a:lnTo>
                  <a:lnTo>
                    <a:pt x="291" y="457"/>
                  </a:lnTo>
                  <a:lnTo>
                    <a:pt x="302" y="453"/>
                  </a:lnTo>
                  <a:lnTo>
                    <a:pt x="312" y="449"/>
                  </a:lnTo>
                  <a:lnTo>
                    <a:pt x="323" y="446"/>
                  </a:lnTo>
                  <a:lnTo>
                    <a:pt x="333" y="440"/>
                  </a:lnTo>
                  <a:lnTo>
                    <a:pt x="343" y="436"/>
                  </a:lnTo>
                  <a:lnTo>
                    <a:pt x="352" y="430"/>
                  </a:lnTo>
                  <a:lnTo>
                    <a:pt x="362" y="424"/>
                  </a:lnTo>
                  <a:lnTo>
                    <a:pt x="380" y="410"/>
                  </a:lnTo>
                  <a:lnTo>
                    <a:pt x="397" y="395"/>
                  </a:lnTo>
                  <a:lnTo>
                    <a:pt x="412" y="379"/>
                  </a:lnTo>
                  <a:lnTo>
                    <a:pt x="425" y="362"/>
                  </a:lnTo>
                  <a:lnTo>
                    <a:pt x="431" y="352"/>
                  </a:lnTo>
                  <a:lnTo>
                    <a:pt x="437" y="342"/>
                  </a:lnTo>
                  <a:lnTo>
                    <a:pt x="442" y="332"/>
                  </a:lnTo>
                  <a:lnTo>
                    <a:pt x="446" y="322"/>
                  </a:lnTo>
                  <a:lnTo>
                    <a:pt x="451" y="311"/>
                  </a:lnTo>
                  <a:lnTo>
                    <a:pt x="454" y="301"/>
                  </a:lnTo>
                  <a:lnTo>
                    <a:pt x="457" y="289"/>
                  </a:lnTo>
                  <a:lnTo>
                    <a:pt x="460" y="278"/>
                  </a:lnTo>
                  <a:lnTo>
                    <a:pt x="461" y="267"/>
                  </a:lnTo>
                  <a:lnTo>
                    <a:pt x="464" y="256"/>
                  </a:lnTo>
                  <a:lnTo>
                    <a:pt x="465" y="244"/>
                  </a:lnTo>
                  <a:lnTo>
                    <a:pt x="465" y="232"/>
                  </a:lnTo>
                  <a:close/>
                </a:path>
              </a:pathLst>
            </a:custGeom>
            <a:solidFill>
              <a:srgbClr val="75c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未知"/>
            <p:cNvSpPr/>
            <p:nvPr/>
          </p:nvSpPr>
          <p:spPr>
            <a:xfrm>
              <a:off x="246240" y="293760"/>
              <a:ext cx="287280" cy="285840"/>
            </a:xfrm>
            <a:custGeom>
              <a:avLst/>
              <a:gdLst/>
              <a:ahLst/>
              <a:rect l="l" t="t" r="r" b="b"/>
              <a:pathLst>
                <a:path w="542" h="541">
                  <a:moveTo>
                    <a:pt x="542" y="271"/>
                  </a:moveTo>
                  <a:lnTo>
                    <a:pt x="542" y="257"/>
                  </a:lnTo>
                  <a:lnTo>
                    <a:pt x="540" y="243"/>
                  </a:lnTo>
                  <a:lnTo>
                    <a:pt x="538" y="230"/>
                  </a:lnTo>
                  <a:lnTo>
                    <a:pt x="536" y="216"/>
                  </a:lnTo>
                  <a:lnTo>
                    <a:pt x="533" y="203"/>
                  </a:lnTo>
                  <a:lnTo>
                    <a:pt x="530" y="190"/>
                  </a:lnTo>
                  <a:lnTo>
                    <a:pt x="525" y="178"/>
                  </a:lnTo>
                  <a:lnTo>
                    <a:pt x="520" y="165"/>
                  </a:lnTo>
                  <a:lnTo>
                    <a:pt x="515" y="153"/>
                  </a:lnTo>
                  <a:lnTo>
                    <a:pt x="509" y="142"/>
                  </a:lnTo>
                  <a:lnTo>
                    <a:pt x="503" y="131"/>
                  </a:lnTo>
                  <a:lnTo>
                    <a:pt x="495" y="120"/>
                  </a:lnTo>
                  <a:lnTo>
                    <a:pt x="488" y="109"/>
                  </a:lnTo>
                  <a:lnTo>
                    <a:pt x="480" y="99"/>
                  </a:lnTo>
                  <a:lnTo>
                    <a:pt x="471" y="90"/>
                  </a:lnTo>
                  <a:lnTo>
                    <a:pt x="462" y="80"/>
                  </a:lnTo>
                  <a:lnTo>
                    <a:pt x="453" y="70"/>
                  </a:lnTo>
                  <a:lnTo>
                    <a:pt x="443" y="63"/>
                  </a:lnTo>
                  <a:lnTo>
                    <a:pt x="432" y="54"/>
                  </a:lnTo>
                  <a:lnTo>
                    <a:pt x="422" y="46"/>
                  </a:lnTo>
                  <a:lnTo>
                    <a:pt x="411" y="40"/>
                  </a:lnTo>
                  <a:lnTo>
                    <a:pt x="400" y="33"/>
                  </a:lnTo>
                  <a:lnTo>
                    <a:pt x="388" y="27"/>
                  </a:lnTo>
                  <a:lnTo>
                    <a:pt x="376" y="22"/>
                  </a:lnTo>
                  <a:lnTo>
                    <a:pt x="363" y="17"/>
                  </a:lnTo>
                  <a:lnTo>
                    <a:pt x="351" y="13"/>
                  </a:lnTo>
                  <a:lnTo>
                    <a:pt x="339" y="9"/>
                  </a:lnTo>
                  <a:lnTo>
                    <a:pt x="326" y="5"/>
                  </a:lnTo>
                  <a:lnTo>
                    <a:pt x="312" y="3"/>
                  </a:lnTo>
                  <a:lnTo>
                    <a:pt x="299" y="2"/>
                  </a:lnTo>
                  <a:lnTo>
                    <a:pt x="285" y="1"/>
                  </a:lnTo>
                  <a:lnTo>
                    <a:pt x="270" y="0"/>
                  </a:lnTo>
                  <a:lnTo>
                    <a:pt x="258" y="1"/>
                  </a:lnTo>
                  <a:lnTo>
                    <a:pt x="243" y="2"/>
                  </a:lnTo>
                  <a:lnTo>
                    <a:pt x="229" y="3"/>
                  </a:lnTo>
                  <a:lnTo>
                    <a:pt x="216" y="5"/>
                  </a:lnTo>
                  <a:lnTo>
                    <a:pt x="204" y="9"/>
                  </a:lnTo>
                  <a:lnTo>
                    <a:pt x="191" y="13"/>
                  </a:lnTo>
                  <a:lnTo>
                    <a:pt x="178" y="17"/>
                  </a:lnTo>
                  <a:lnTo>
                    <a:pt x="166" y="22"/>
                  </a:lnTo>
                  <a:lnTo>
                    <a:pt x="154" y="27"/>
                  </a:lnTo>
                  <a:lnTo>
                    <a:pt x="142" y="33"/>
                  </a:lnTo>
                  <a:lnTo>
                    <a:pt x="131" y="40"/>
                  </a:lnTo>
                  <a:lnTo>
                    <a:pt x="120" y="46"/>
                  </a:lnTo>
                  <a:lnTo>
                    <a:pt x="110" y="54"/>
                  </a:lnTo>
                  <a:lnTo>
                    <a:pt x="99" y="63"/>
                  </a:lnTo>
                  <a:lnTo>
                    <a:pt x="89" y="70"/>
                  </a:lnTo>
                  <a:lnTo>
                    <a:pt x="79" y="80"/>
                  </a:lnTo>
                  <a:lnTo>
                    <a:pt x="71" y="90"/>
                  </a:lnTo>
                  <a:lnTo>
                    <a:pt x="62" y="99"/>
                  </a:lnTo>
                  <a:lnTo>
                    <a:pt x="54" y="109"/>
                  </a:lnTo>
                  <a:lnTo>
                    <a:pt x="47" y="120"/>
                  </a:lnTo>
                  <a:lnTo>
                    <a:pt x="39" y="131"/>
                  </a:lnTo>
                  <a:lnTo>
                    <a:pt x="33" y="142"/>
                  </a:lnTo>
                  <a:lnTo>
                    <a:pt x="27" y="153"/>
                  </a:lnTo>
                  <a:lnTo>
                    <a:pt x="22" y="165"/>
                  </a:lnTo>
                  <a:lnTo>
                    <a:pt x="17" y="178"/>
                  </a:lnTo>
                  <a:lnTo>
                    <a:pt x="12" y="190"/>
                  </a:lnTo>
                  <a:lnTo>
                    <a:pt x="9" y="203"/>
                  </a:lnTo>
                  <a:lnTo>
                    <a:pt x="6" y="216"/>
                  </a:lnTo>
                  <a:lnTo>
                    <a:pt x="4" y="230"/>
                  </a:lnTo>
                  <a:lnTo>
                    <a:pt x="2" y="243"/>
                  </a:lnTo>
                  <a:lnTo>
                    <a:pt x="0" y="257"/>
                  </a:lnTo>
                  <a:lnTo>
                    <a:pt x="0" y="271"/>
                  </a:lnTo>
                  <a:lnTo>
                    <a:pt x="0" y="285"/>
                  </a:lnTo>
                  <a:lnTo>
                    <a:pt x="2" y="298"/>
                  </a:lnTo>
                  <a:lnTo>
                    <a:pt x="4" y="312"/>
                  </a:lnTo>
                  <a:lnTo>
                    <a:pt x="6" y="325"/>
                  </a:lnTo>
                  <a:lnTo>
                    <a:pt x="9" y="338"/>
                  </a:lnTo>
                  <a:lnTo>
                    <a:pt x="12" y="351"/>
                  </a:lnTo>
                  <a:lnTo>
                    <a:pt x="17" y="364"/>
                  </a:lnTo>
                  <a:lnTo>
                    <a:pt x="22" y="376"/>
                  </a:lnTo>
                  <a:lnTo>
                    <a:pt x="27" y="388"/>
                  </a:lnTo>
                  <a:lnTo>
                    <a:pt x="33" y="399"/>
                  </a:lnTo>
                  <a:lnTo>
                    <a:pt x="39" y="411"/>
                  </a:lnTo>
                  <a:lnTo>
                    <a:pt x="47" y="422"/>
                  </a:lnTo>
                  <a:lnTo>
                    <a:pt x="54" y="432"/>
                  </a:lnTo>
                  <a:lnTo>
                    <a:pt x="62" y="443"/>
                  </a:lnTo>
                  <a:lnTo>
                    <a:pt x="71" y="452"/>
                  </a:lnTo>
                  <a:lnTo>
                    <a:pt x="79" y="462"/>
                  </a:lnTo>
                  <a:lnTo>
                    <a:pt x="89" y="471"/>
                  </a:lnTo>
                  <a:lnTo>
                    <a:pt x="99" y="479"/>
                  </a:lnTo>
                  <a:lnTo>
                    <a:pt x="110" y="487"/>
                  </a:lnTo>
                  <a:lnTo>
                    <a:pt x="120" y="494"/>
                  </a:lnTo>
                  <a:lnTo>
                    <a:pt x="131" y="502"/>
                  </a:lnTo>
                  <a:lnTo>
                    <a:pt x="142" y="509"/>
                  </a:lnTo>
                  <a:lnTo>
                    <a:pt x="154" y="515"/>
                  </a:lnTo>
                  <a:lnTo>
                    <a:pt x="166" y="520"/>
                  </a:lnTo>
                  <a:lnTo>
                    <a:pt x="178" y="525"/>
                  </a:lnTo>
                  <a:lnTo>
                    <a:pt x="191" y="529"/>
                  </a:lnTo>
                  <a:lnTo>
                    <a:pt x="204" y="532"/>
                  </a:lnTo>
                  <a:lnTo>
                    <a:pt x="216" y="536"/>
                  </a:lnTo>
                  <a:lnTo>
                    <a:pt x="229" y="538"/>
                  </a:lnTo>
                  <a:lnTo>
                    <a:pt x="243" y="540"/>
                  </a:lnTo>
                  <a:lnTo>
                    <a:pt x="258" y="541"/>
                  </a:lnTo>
                  <a:lnTo>
                    <a:pt x="270" y="541"/>
                  </a:lnTo>
                  <a:lnTo>
                    <a:pt x="285" y="541"/>
                  </a:lnTo>
                  <a:lnTo>
                    <a:pt x="299" y="540"/>
                  </a:lnTo>
                  <a:lnTo>
                    <a:pt x="312" y="538"/>
                  </a:lnTo>
                  <a:lnTo>
                    <a:pt x="326" y="536"/>
                  </a:lnTo>
                  <a:lnTo>
                    <a:pt x="339" y="532"/>
                  </a:lnTo>
                  <a:lnTo>
                    <a:pt x="351" y="529"/>
                  </a:lnTo>
                  <a:lnTo>
                    <a:pt x="363" y="525"/>
                  </a:lnTo>
                  <a:lnTo>
                    <a:pt x="376" y="520"/>
                  </a:lnTo>
                  <a:lnTo>
                    <a:pt x="388" y="515"/>
                  </a:lnTo>
                  <a:lnTo>
                    <a:pt x="400" y="509"/>
                  </a:lnTo>
                  <a:lnTo>
                    <a:pt x="411" y="502"/>
                  </a:lnTo>
                  <a:lnTo>
                    <a:pt x="422" y="494"/>
                  </a:lnTo>
                  <a:lnTo>
                    <a:pt x="432" y="487"/>
                  </a:lnTo>
                  <a:lnTo>
                    <a:pt x="443" y="479"/>
                  </a:lnTo>
                  <a:lnTo>
                    <a:pt x="453" y="471"/>
                  </a:lnTo>
                  <a:lnTo>
                    <a:pt x="462" y="462"/>
                  </a:lnTo>
                  <a:lnTo>
                    <a:pt x="471" y="452"/>
                  </a:lnTo>
                  <a:lnTo>
                    <a:pt x="480" y="443"/>
                  </a:lnTo>
                  <a:lnTo>
                    <a:pt x="488" y="432"/>
                  </a:lnTo>
                  <a:lnTo>
                    <a:pt x="495" y="422"/>
                  </a:lnTo>
                  <a:lnTo>
                    <a:pt x="503" y="411"/>
                  </a:lnTo>
                  <a:lnTo>
                    <a:pt x="509" y="399"/>
                  </a:lnTo>
                  <a:lnTo>
                    <a:pt x="515" y="388"/>
                  </a:lnTo>
                  <a:lnTo>
                    <a:pt x="520" y="376"/>
                  </a:lnTo>
                  <a:lnTo>
                    <a:pt x="525" y="364"/>
                  </a:lnTo>
                  <a:lnTo>
                    <a:pt x="530" y="351"/>
                  </a:lnTo>
                  <a:lnTo>
                    <a:pt x="533" y="338"/>
                  </a:lnTo>
                  <a:lnTo>
                    <a:pt x="536" y="325"/>
                  </a:lnTo>
                  <a:lnTo>
                    <a:pt x="538" y="312"/>
                  </a:lnTo>
                  <a:lnTo>
                    <a:pt x="540" y="298"/>
                  </a:lnTo>
                  <a:lnTo>
                    <a:pt x="542" y="285"/>
                  </a:lnTo>
                  <a:lnTo>
                    <a:pt x="542" y="271"/>
                  </a:lnTo>
                  <a:close/>
                </a:path>
              </a:pathLst>
            </a:custGeom>
            <a:solidFill>
              <a:srgbClr val="75c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56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F5B24-2E6B-44A1-BA52-253B2ABF70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0" y="0"/>
            <a:ext cx="785880" cy="6858000"/>
            <a:chOff x="0" y="0"/>
            <a:chExt cx="785880" cy="6858000"/>
          </a:xfrm>
        </p:grpSpPr>
        <p:grpSp>
          <p:nvGrpSpPr>
            <p:cNvPr id="182" name=""/>
            <p:cNvGrpSpPr/>
            <p:nvPr/>
          </p:nvGrpSpPr>
          <p:grpSpPr>
            <a:xfrm>
              <a:off x="0" y="0"/>
              <a:ext cx="785880" cy="6858000"/>
              <a:chOff x="0" y="0"/>
              <a:chExt cx="785880" cy="6858000"/>
            </a:xfrm>
          </p:grpSpPr>
          <p:sp>
            <p:nvSpPr>
              <p:cNvPr id="183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74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33520" y="0"/>
                <a:ext cx="252360" cy="6858000"/>
              </a:xfrm>
              <a:prstGeom prst="rect">
                <a:avLst/>
              </a:prstGeom>
              <a:solidFill>
                <a:srgbClr val="085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0" y="6324480"/>
              <a:ext cx="762120" cy="252360"/>
            </a:xfrm>
            <a:prstGeom prst="rect">
              <a:avLst/>
            </a:prstGeom>
            <a:solidFill>
              <a:srgbClr val="085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3520" y="6324480"/>
              <a:ext cx="252360" cy="2523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0" y="379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7488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74888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837720" y="1555920"/>
            <a:ext cx="80010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SzPct val="11428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85356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3555720" y="6244920"/>
            <a:ext cx="2600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6686640" y="6237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1334C-06A1-4918-AA26-CECE7FE50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"/>
          <p:cNvGrpSpPr/>
          <p:nvPr/>
        </p:nvGrpSpPr>
        <p:grpSpPr>
          <a:xfrm>
            <a:off x="0" y="1379520"/>
            <a:ext cx="9144000" cy="449280"/>
            <a:chOff x="0" y="1379520"/>
            <a:chExt cx="9144000" cy="449280"/>
          </a:xfrm>
        </p:grpSpPr>
        <p:sp>
          <p:nvSpPr>
            <p:cNvPr id="230" name=""/>
            <p:cNvSpPr/>
            <p:nvPr/>
          </p:nvSpPr>
          <p:spPr>
            <a:xfrm>
              <a:off x="0" y="1379520"/>
              <a:ext cx="9144000" cy="69840"/>
            </a:xfrm>
            <a:prstGeom prst="rect">
              <a:avLst/>
            </a:prstGeom>
            <a:solidFill>
              <a:srgbClr val="085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0" y="1484280"/>
              <a:ext cx="9144000" cy="252360"/>
            </a:xfrm>
            <a:prstGeom prst="rect">
              <a:avLst/>
            </a:prstGeom>
            <a:solidFill>
              <a:srgbClr val="074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0" y="1758960"/>
              <a:ext cx="9144000" cy="69840"/>
            </a:xfrm>
            <a:prstGeom prst="rect">
              <a:avLst/>
            </a:prstGeom>
            <a:solidFill>
              <a:srgbClr val="085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393840" y="0"/>
            <a:ext cx="392040" cy="6858000"/>
            <a:chOff x="393840" y="0"/>
            <a:chExt cx="392040" cy="6858000"/>
          </a:xfrm>
        </p:grpSpPr>
        <p:sp>
          <p:nvSpPr>
            <p:cNvPr id="234" name=""/>
            <p:cNvSpPr/>
            <p:nvPr/>
          </p:nvSpPr>
          <p:spPr>
            <a:xfrm>
              <a:off x="533520" y="0"/>
              <a:ext cx="252360" cy="6858000"/>
            </a:xfrm>
            <a:prstGeom prst="rect">
              <a:avLst/>
            </a:prstGeom>
            <a:solidFill>
              <a:srgbClr val="085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393840" y="0"/>
              <a:ext cx="69840" cy="6858000"/>
            </a:xfrm>
            <a:prstGeom prst="rect">
              <a:avLst/>
            </a:prstGeom>
            <a:solidFill>
              <a:srgbClr val="074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533520" y="1479600"/>
            <a:ext cx="252360" cy="252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032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7488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74888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00317-1E27-4092-88E1-432AFB04F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80880" y="0"/>
            <a:ext cx="1447920" cy="68421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c1c0c6"/>
              </a:gs>
              <a:gs pos="100000">
                <a:srgbClr val="003c9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1628640"/>
            <a:ext cx="5030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95280" y="549360"/>
            <a:ext cx="8747280" cy="9745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94920" y="606600"/>
            <a:ext cx="82803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1056F-EB9A-4342-A36A-4DD1B69085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380880" y="0"/>
            <a:ext cx="1447920" cy="68421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c1c0c6"/>
              </a:gs>
              <a:gs pos="100000">
                <a:srgbClr val="003c9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2205000"/>
            <a:ext cx="8456760" cy="122400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3505320"/>
            <a:ext cx="503856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71400" y="2219040"/>
            <a:ext cx="80042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2F2C4-B7CB-4365-BA20-65C705BEDC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"/>
          <p:cNvGrpSpPr/>
          <p:nvPr/>
        </p:nvGrpSpPr>
        <p:grpSpPr>
          <a:xfrm>
            <a:off x="8718480" y="1440"/>
            <a:ext cx="431640" cy="6856560"/>
            <a:chOff x="8718480" y="1440"/>
            <a:chExt cx="431640" cy="6856560"/>
          </a:xfrm>
        </p:grpSpPr>
        <p:sp>
          <p:nvSpPr>
            <p:cNvPr id="367" name=""/>
            <p:cNvSpPr/>
            <p:nvPr/>
          </p:nvSpPr>
          <p:spPr>
            <a:xfrm>
              <a:off x="8718480" y="2151000"/>
              <a:ext cx="431640" cy="470700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718480" y="1440"/>
              <a:ext cx="431640" cy="4021200"/>
            </a:xfrm>
            <a:prstGeom prst="rect">
              <a:avLst/>
            </a:prstGeom>
            <a:solidFill>
              <a:srgbClr val="a3e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0" y="0"/>
            <a:ext cx="1147680" cy="6858000"/>
            <a:chOff x="0" y="0"/>
            <a:chExt cx="1147680" cy="6858000"/>
          </a:xfrm>
        </p:grpSpPr>
        <p:sp>
          <p:nvSpPr>
            <p:cNvPr id="370" name=""/>
            <p:cNvSpPr/>
            <p:nvPr/>
          </p:nvSpPr>
          <p:spPr>
            <a:xfrm>
              <a:off x="0" y="4610160"/>
              <a:ext cx="792000" cy="224784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0" y="0"/>
              <a:ext cx="792000" cy="275112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0" y="2747880"/>
              <a:ext cx="792000" cy="968400"/>
            </a:xfrm>
            <a:prstGeom prst="rect">
              <a:avLst/>
            </a:prstGeom>
            <a:solidFill>
              <a:srgbClr val="7db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0" y="3708360"/>
              <a:ext cx="792000" cy="968400"/>
            </a:xfrm>
            <a:prstGeom prst="rect">
              <a:avLst/>
            </a:prstGeom>
            <a:solidFill>
              <a:srgbClr val="76ad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84080" y="0"/>
              <a:ext cx="184320" cy="144288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6960" y="1346040"/>
              <a:ext cx="180720" cy="9684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89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77112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383652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690372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A37E3-96D0-4FCF-9BA4-7A92FCAC34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9"/>
    <p:sldLayoutId id="2147483754" r:id="rId10"/>
    <p:sldLayoutId id="2147483755" r:id="rId11"/>
    <p:sldLayoutId id="2147483756" r:id="rId12"/>
    <p:sldLayoutId id="2147483757" r:id="rId13"/>
    <p:sldLayoutId id="2147483758" r:id="rId14"/>
    <p:sldLayoutId id="2147483759" r:id="rId15"/>
    <p:sldLayoutId id="2147483760" r:id="rId16"/>
    <p:sldLayoutId id="2147483761" r:id="rId17"/>
    <p:sldLayoutId id="2147483762" r:id="rId18"/>
    <p:sldLayoutId id="2147483763" r:id="rId19"/>
    <p:sldLayoutId id="2147483764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gif"/><Relationship Id="rId3" Type="http://schemas.openxmlformats.org/officeDocument/2006/relationships/image" Target="../media/image30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push.wav" TargetMode="External"/><Relationship Id="rId2" Type="http://schemas.microsoft.com/office/2007/relationships/media" Target="file:///tmp/home/.config/libreoffice/4/user/gallery/push.wav" TargetMode="External"/><Relationship Id="rId3" Type="http://schemas.openxmlformats.org/officeDocument/2006/relationships/image" Target="../media/image20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4.png"/><Relationship Id="rId3" Type="http://schemas.openxmlformats.org/officeDocument/2006/relationships/image" Target="../media/image35.gif"/><Relationship Id="rId4" Type="http://schemas.openxmlformats.org/officeDocument/2006/relationships/image" Target="../media/image36.gif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2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explode.wav" TargetMode="External"/><Relationship Id="rId2" Type="http://schemas.microsoft.com/office/2007/relationships/media" Target="file:///tmp/home/.config/libreoffice/4/user/gallery/explode.wav" TargetMode="External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jpeg"/><Relationship Id="rId6" Type="http://schemas.openxmlformats.org/officeDocument/2006/relationships/image" Target="../media/image23.gif"/><Relationship Id="rId7" Type="http://schemas.openxmlformats.org/officeDocument/2006/relationships/image" Target="../media/image24.gif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7.jpeg"/><Relationship Id="rId3" Type="http://schemas.openxmlformats.org/officeDocument/2006/relationships/image" Target="../media/image27.jpe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beijing" descr=""/>
          <p:cNvPicPr/>
          <p:nvPr/>
        </p:nvPicPr>
        <p:blipFill>
          <a:blip r:embed="rId1"/>
          <a:stretch/>
        </p:blipFill>
        <p:spPr>
          <a:xfrm>
            <a:off x="-166680" y="-84240"/>
            <a:ext cx="9348840" cy="694224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/>
          <p:nvPr/>
        </p:nvSpPr>
        <p:spPr>
          <a:xfrm>
            <a:off x="-93600" y="115920"/>
            <a:ext cx="44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cc99"/>
                </a:solidFill>
                <a:latin typeface="Arial"/>
              </a:rPr>
              <a:t>苏教版八年级下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826920" y="1484280"/>
            <a:ext cx="72025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9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宋体"/>
              </a:rPr>
              <a:t>两小儿辩日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宋体"/>
              <a:ea typeface="宋体"/>
            </a:endParaRPr>
          </a:p>
        </p:txBody>
      </p:sp>
      <p:sp>
        <p:nvSpPr>
          <p:cNvPr id="565" name=""/>
          <p:cNvSpPr/>
          <p:nvPr/>
        </p:nvSpPr>
        <p:spPr>
          <a:xfrm>
            <a:off x="1490760" y="5877000"/>
            <a:ext cx="3873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99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cc99"/>
                </a:solidFill>
                <a:latin typeface="Arial"/>
              </a:rPr>
              <a:t>淅川县寺湾镇中     王栋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8e09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1532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28" name=""/>
          <p:cNvGrpSpPr/>
          <p:nvPr/>
        </p:nvGrpSpPr>
        <p:grpSpPr>
          <a:xfrm>
            <a:off x="5866920" y="0"/>
            <a:ext cx="1143360" cy="1066680"/>
            <a:chOff x="5866920" y="0"/>
            <a:chExt cx="1143360" cy="1066680"/>
          </a:xfrm>
        </p:grpSpPr>
        <p:sp>
          <p:nvSpPr>
            <p:cNvPr id="629" name=""/>
            <p:cNvSpPr/>
            <p:nvPr/>
          </p:nvSpPr>
          <p:spPr>
            <a:xfrm>
              <a:off x="6172200" y="0"/>
              <a:ext cx="685800" cy="609480"/>
            </a:xfrm>
            <a:prstGeom prst="flowChartConnector">
              <a:avLst/>
            </a:prstGeom>
            <a:gradFill rotWithShape="0">
              <a:gsLst>
                <a:gs pos="0">
                  <a:srgbClr val="fde953"/>
                </a:gs>
                <a:gs pos="100000">
                  <a:srgbClr val="fdfbd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943600" y="533520"/>
              <a:ext cx="304560" cy="228600"/>
            </a:xfrm>
            <a:prstGeom prst="line">
              <a:avLst/>
            </a:prstGeom>
            <a:ln w="19080">
              <a:solidFill>
                <a:srgbClr val="fdfa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476760" y="609480"/>
              <a:ext cx="76320" cy="457200"/>
            </a:xfrm>
            <a:prstGeom prst="line">
              <a:avLst/>
            </a:prstGeom>
            <a:ln w="9360">
              <a:solidFill>
                <a:srgbClr val="f3f0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705360" y="457200"/>
              <a:ext cx="304920" cy="304920"/>
            </a:xfrm>
            <a:prstGeom prst="line">
              <a:avLst/>
            </a:prstGeom>
            <a:ln w="19080">
              <a:solidFill>
                <a:srgbClr val="fdfa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 flipV="1">
              <a:off x="5866920" y="228600"/>
              <a:ext cx="304920" cy="76320"/>
            </a:xfrm>
            <a:prstGeom prst="line">
              <a:avLst/>
            </a:prstGeom>
            <a:ln w="9360">
              <a:solidFill>
                <a:srgbClr val="f3f0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6324480" y="4191120"/>
            <a:ext cx="990720" cy="838080"/>
            <a:chOff x="6324480" y="4191120"/>
            <a:chExt cx="990720" cy="838080"/>
          </a:xfrm>
        </p:grpSpPr>
        <p:sp>
          <p:nvSpPr>
            <p:cNvPr id="635" name=""/>
            <p:cNvSpPr/>
            <p:nvPr/>
          </p:nvSpPr>
          <p:spPr>
            <a:xfrm>
              <a:off x="6324480" y="4191120"/>
              <a:ext cx="990720" cy="838080"/>
            </a:xfrm>
            <a:prstGeom prst="wedgeEllipseCallout">
              <a:avLst>
                <a:gd name="adj1" fmla="val -36055"/>
                <a:gd name="adj2" fmla="val 97347"/>
              </a:avLst>
            </a:prstGeom>
            <a:gradFill rotWithShape="0">
              <a:gsLst>
                <a:gs pos="0">
                  <a:srgbClr val="eed07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400800" y="4419720"/>
              <a:ext cx="83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3300"/>
                  </a:solidFill>
                  <a:latin typeface="Arial"/>
                </a:rPr>
                <a:t>好热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7" name=""/>
          <p:cNvSpPr txBox="1"/>
          <p:nvPr/>
        </p:nvSpPr>
        <p:spPr>
          <a:xfrm rot="5400000">
            <a:off x="-611640" y="3273480"/>
            <a:ext cx="2441880" cy="609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66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宋体"/>
              </a:rPr>
              <a:t>烈日当空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66"/>
                  </a:gs>
                  <a:gs pos="100000">
                    <a:srgbClr val="ffffff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5715000" y="5029200"/>
            <a:ext cx="1143000" cy="139392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6934320" y="5105520"/>
            <a:ext cx="718920" cy="121896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838080" y="457200"/>
            <a:ext cx="8001000" cy="25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zh-CN" sz="3200" spc="-1" strike="noStrike">
                <a:solidFill>
                  <a:srgbClr val="ff0000"/>
                </a:solidFill>
                <a:latin typeface="Verdana"/>
              </a:rPr>
              <a:t>一儿曰：“日初出            ，及其日中如        ，此不为近者热而远者凉乎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029200" y="1143000"/>
            <a:ext cx="2224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沧沧凉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676520" y="1600200"/>
            <a:ext cx="11667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探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ubOvalCallout"/>
          <p:cNvSpPr/>
          <p:nvPr/>
        </p:nvSpPr>
        <p:spPr>
          <a:xfrm>
            <a:off x="4648320" y="-182520"/>
            <a:ext cx="3295440" cy="1554120"/>
          </a:xfrm>
          <a:custGeom>
            <a:avLst/>
            <a:gdLst>
              <a:gd name="textAreaLeft" fmla="*/ 482400 w 3295440"/>
              <a:gd name="textAreaRight" fmla="*/ 2813040 w 3295440"/>
              <a:gd name="textAreaTop" fmla="*/ 170640 h 1554120"/>
              <a:gd name="textAreaBottom" fmla="*/ 995400 h 1554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阴阴冷冷、天气凉爽的样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ubOvalCallout"/>
          <p:cNvSpPr/>
          <p:nvPr/>
        </p:nvSpPr>
        <p:spPr>
          <a:xfrm>
            <a:off x="-112680" y="-189000"/>
            <a:ext cx="4265640" cy="1827360"/>
          </a:xfrm>
          <a:custGeom>
            <a:avLst/>
            <a:gdLst>
              <a:gd name="textAreaLeft" fmla="*/ 624600 w 4265640"/>
              <a:gd name="textAreaRight" fmla="*/ 3641040 w 4265640"/>
              <a:gd name="textAreaTop" fmla="*/ 200520 h 1827360"/>
              <a:gd name="textAreaBottom" fmla="*/ 1170720 h 182736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把手伸到热水里去。意思是天气很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4" name="chimes.wav"/>
      </p:stSnd>
    </p:sndAc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0" y="914400"/>
            <a:ext cx="914400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孔子东游，见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两小儿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辩斗，问其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一儿曰：“我以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日始出时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去人近，而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日中时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远也。”一儿以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日初出远，而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日中时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近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一儿曰：“日初出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大如车盖，及日中，则如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盘盂，此不为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远者小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而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近者大乎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一儿曰：“日初出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沧沧凉凉，及其日中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如探汤，此不为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近者热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而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远者凉乎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孔子不能决也。两小儿笑曰：“孰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为汝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多知乎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332000" y="260280"/>
            <a:ext cx="579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两 小 儿 辩 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7885080" y="476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pull dir="d"/>
    <p:sndAc>
      <p:stSnd>
        <p:snd r:embed="rId4" name="chimes.wav"/>
      </p:stSnd>
    </p:sndAc>
  </p:transition>
  <p:timing>
    <p:tnLst>
      <p:par>
        <p:cTn id="169" dur="indefinite" restart="never" nodeType="tmRoot">
          <p:childTnLst>
            <p:seq>
              <p:cTn id="170" restart="whenNotActive" nodeType="interactiveSeq" fill="hold">
                <p:stCondLst>
                  <p:cond evt="onClick">
                    <p:tgtEl>
                      <p:spTgt spid="647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647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210965" fill="hold"/>
                                        <p:tgtEl>
                                          <p:spTgt spid="6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2101680" cy="3429000"/>
          </a:xfrm>
          <a:prstGeom prst="rect">
            <a:avLst/>
          </a:prstGeom>
          <a:ln w="0">
            <a:noFill/>
          </a:ln>
        </p:spPr>
      </p:pic>
      <p:pic>
        <p:nvPicPr>
          <p:cNvPr id="6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85840" cy="343368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700" spc="-1" strike="noStrike">
                <a:solidFill>
                  <a:srgbClr val="ff3399"/>
                </a:solidFill>
                <a:latin typeface="Times New Roman"/>
              </a:rPr>
              <a:t>思考题：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67652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Times New Roman"/>
              </a:rPr>
              <a:t>两小儿到底辩论太阳的什么？（    ）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辩论太阳的大小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辩论太阳的凉热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辩论太阳离人的远近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343400" y="281952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324480" y="6858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40a89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"/>
          <p:cNvGrpSpPr/>
          <p:nvPr/>
        </p:nvGrpSpPr>
        <p:grpSpPr>
          <a:xfrm>
            <a:off x="762120" y="1295280"/>
            <a:ext cx="6629400" cy="1486080"/>
            <a:chOff x="762120" y="1295280"/>
            <a:chExt cx="6629400" cy="1486080"/>
          </a:xfrm>
        </p:grpSpPr>
        <p:sp>
          <p:nvSpPr>
            <p:cNvPr id="655" name=""/>
            <p:cNvSpPr/>
            <p:nvPr/>
          </p:nvSpPr>
          <p:spPr>
            <a:xfrm>
              <a:off x="1219320" y="1295280"/>
              <a:ext cx="6172200" cy="1486080"/>
            </a:xfrm>
            <a:prstGeom prst="rect">
              <a:avLst/>
            </a:prstGeom>
            <a:gradFill rotWithShape="0">
              <a:gsLst>
                <a:gs pos="0">
                  <a:srgbClr val="29e9fd"/>
                </a:gs>
                <a:gs pos="100000">
                  <a:srgbClr val="ffffff"/>
                </a:gs>
              </a:gsLst>
              <a:lin ang="5400000"/>
            </a:gradFill>
            <a:ln w="5724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ff"/>
                  </a:solidFill>
                  <a:latin typeface="Arial"/>
                </a:rPr>
                <a:t>一儿曰：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日初出大如车盖，及日中，则如盘盂，此不为远者小而近者大乎？ ”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</a:t>
              </a:r>
              <a:r>
                <a:rPr b="0" lang="en-US" sz="1800" spc="-1" strike="noStrike">
                  <a:solidFill>
                    <a:srgbClr val="ff3399"/>
                  </a:solidFill>
                  <a:latin typeface="Arial"/>
                </a:rPr>
                <a:t>—</a:t>
              </a:r>
              <a:r>
                <a:rPr b="0" lang="zh-CN" sz="1800" spc="-1" strike="noStrike">
                  <a:solidFill>
                    <a:srgbClr val="ff3399"/>
                  </a:solidFill>
                  <a:latin typeface="Arial"/>
                </a:rPr>
                <a:t>远者小    近者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6" name="" descr=""/>
            <p:cNvPicPr/>
            <p:nvPr/>
          </p:nvPicPr>
          <p:blipFill>
            <a:blip r:embed="rId1"/>
            <a:stretch/>
          </p:blipFill>
          <p:spPr>
            <a:xfrm>
              <a:off x="762120" y="1676160"/>
              <a:ext cx="57168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7" name=""/>
          <p:cNvGrpSpPr/>
          <p:nvPr/>
        </p:nvGrpSpPr>
        <p:grpSpPr>
          <a:xfrm>
            <a:off x="914400" y="3809880"/>
            <a:ext cx="7010280" cy="1486080"/>
            <a:chOff x="914400" y="3809880"/>
            <a:chExt cx="7010280" cy="1486080"/>
          </a:xfrm>
        </p:grpSpPr>
        <p:sp>
          <p:nvSpPr>
            <p:cNvPr id="658" name=""/>
            <p:cNvSpPr/>
            <p:nvPr/>
          </p:nvSpPr>
          <p:spPr>
            <a:xfrm>
              <a:off x="1371600" y="3809880"/>
              <a:ext cx="6553080" cy="14860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ff"/>
                  </a:solidFill>
                  <a:latin typeface="Arial"/>
                </a:rPr>
                <a:t>一儿曰</a:t>
              </a:r>
              <a:r>
                <a:rPr b="0" lang="zh-CN" sz="2800" spc="-1" strike="noStrike">
                  <a:solidFill>
                    <a:srgbClr val="7d7a0b"/>
                  </a:solidFill>
                  <a:latin typeface="Arial"/>
                </a:rPr>
                <a:t>：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日初出沧沧凉凉，及其日中如探汤，此不为近者热而远者凉乎？”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</a:t>
              </a:r>
              <a:r>
                <a:rPr b="0" lang="en-US" sz="1800" spc="-1" strike="noStrike">
                  <a:solidFill>
                    <a:srgbClr val="ff3399"/>
                  </a:solidFill>
                  <a:latin typeface="Arial"/>
                </a:rPr>
                <a:t>——</a:t>
              </a:r>
              <a:r>
                <a:rPr b="0" lang="zh-CN" sz="1800" spc="-1" strike="noStrike">
                  <a:solidFill>
                    <a:srgbClr val="ff3399"/>
                  </a:solidFill>
                  <a:latin typeface="Arial"/>
                </a:rPr>
                <a:t>远者凉    近者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9" name="" descr=""/>
            <p:cNvPicPr/>
            <p:nvPr/>
          </p:nvPicPr>
          <p:blipFill>
            <a:blip r:embed="rId3"/>
            <a:stretch/>
          </p:blipFill>
          <p:spPr>
            <a:xfrm>
              <a:off x="914400" y="4267080"/>
              <a:ext cx="533520" cy="399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0" name=""/>
          <p:cNvGrpSpPr/>
          <p:nvPr/>
        </p:nvGrpSpPr>
        <p:grpSpPr>
          <a:xfrm>
            <a:off x="6095880" y="0"/>
            <a:ext cx="2438280" cy="1143000"/>
            <a:chOff x="6095880" y="0"/>
            <a:chExt cx="2438280" cy="1143000"/>
          </a:xfrm>
        </p:grpSpPr>
        <p:sp>
          <p:nvSpPr>
            <p:cNvPr id="661" name=""/>
            <p:cNvSpPr/>
            <p:nvPr/>
          </p:nvSpPr>
          <p:spPr>
            <a:xfrm>
              <a:off x="6095880" y="0"/>
              <a:ext cx="2438280" cy="1143000"/>
            </a:xfrm>
            <a:prstGeom prst="cloudCallout">
              <a:avLst>
                <a:gd name="adj1" fmla="val 29689"/>
                <a:gd name="adj2" fmla="val 141666"/>
              </a:avLst>
            </a:prstGeom>
            <a:gradFill rotWithShape="0">
              <a:gsLst>
                <a:gs pos="0">
                  <a:srgbClr val="6cdaf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我可以吗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2" name="" descr=""/>
            <p:cNvPicPr/>
            <p:nvPr/>
          </p:nvPicPr>
          <p:blipFill>
            <a:blip r:embed="rId4"/>
            <a:stretch/>
          </p:blipFill>
          <p:spPr>
            <a:xfrm>
              <a:off x="7696080" y="53352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"/>
          <p:cNvSpPr txBox="1"/>
          <p:nvPr/>
        </p:nvSpPr>
        <p:spPr>
          <a:xfrm>
            <a:off x="3048120" y="228600"/>
            <a:ext cx="2057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234b3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华文细黑"/>
              </a:rPr>
              <a:t>两种理由</a:t>
            </a:r>
            <a:endParaRPr b="1" lang="en-US" sz="1800" spc="-1" strike="noStrike">
              <a:ln w="0">
                <a:noFill/>
              </a:ln>
              <a:solidFill>
                <a:srgbClr val="f234b3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华文细黑"/>
              <a:ea typeface="华文细黑"/>
            </a:endParaRPr>
          </a:p>
        </p:txBody>
      </p:sp>
    </p:spTree>
  </p:cSld>
  <p:transition>
    <p:dissolve/>
    <p:sndAc>
      <p:stSnd>
        <p:snd r:embed="rId5" name="whoosh.wav"/>
      </p:stSnd>
    </p:sndAc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" descr=""/>
          <p:cNvPicPr/>
          <p:nvPr/>
        </p:nvPicPr>
        <p:blipFill>
          <a:blip r:embed="rId1"/>
          <a:stretch/>
        </p:blipFill>
        <p:spPr>
          <a:xfrm>
            <a:off x="2629080" y="0"/>
            <a:ext cx="6553080" cy="6865920"/>
          </a:xfrm>
          <a:prstGeom prst="rect">
            <a:avLst/>
          </a:prstGeom>
          <a:ln w="0">
            <a:noFill/>
          </a:ln>
        </p:spPr>
      </p:pic>
      <p:sp>
        <p:nvSpPr>
          <p:cNvPr id="665" name=""/>
          <p:cNvSpPr txBox="1"/>
          <p:nvPr/>
        </p:nvSpPr>
        <p:spPr>
          <a:xfrm rot="5400000">
            <a:off x="157680" y="2947320"/>
            <a:ext cx="3024000" cy="1250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79000"/>
                    </a:srgbClr>
                  </a:outerShdw>
                </a:effectLst>
                <a:latin typeface="宋体"/>
              </a:rPr>
              <a:t>孔子</a:t>
            </a:r>
            <a:endParaRPr b="0" i="1" lang="en-US" sz="1800" spc="-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cover dir="r"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cc99"/>
                </a:solidFill>
                <a:latin typeface="Times New Roman"/>
                <a:ea typeface="华文行楷"/>
              </a:rPr>
              <a:t>我会写       我会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两小儿笑曰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3333cc"/>
                </a:solidFill>
                <a:latin typeface="Times New Roman"/>
              </a:rPr>
              <a:t>“孰为汝多知乎？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孔子曰：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……………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8" name="" descr=""/>
          <p:cNvPicPr/>
          <p:nvPr/>
        </p:nvPicPr>
        <p:blipFill>
          <a:blip r:embed="rId1"/>
          <a:stretch/>
        </p:blipFill>
        <p:spPr>
          <a:xfrm>
            <a:off x="-92160" y="46080"/>
            <a:ext cx="9345600" cy="738036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sp>
        <p:nvSpPr>
          <p:cNvPr id="669" name=""/>
          <p:cNvSpPr/>
          <p:nvPr/>
        </p:nvSpPr>
        <p:spPr>
          <a:xfrm>
            <a:off x="1836720" y="2276640"/>
            <a:ext cx="2743200" cy="914400"/>
          </a:xfrm>
          <a:prstGeom prst="rightArrowCallout">
            <a:avLst>
              <a:gd name="adj1" fmla="val 25002"/>
              <a:gd name="adj2" fmla="val 25000"/>
              <a:gd name="adj3" fmla="val 50000"/>
              <a:gd name="adj4" fmla="val 6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895480" y="30492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我会写   我会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038480" y="3809880"/>
            <a:ext cx="1447920" cy="2590920"/>
          </a:xfrm>
          <a:prstGeom prst="leftArrowCallout">
            <a:avLst>
              <a:gd name="adj1" fmla="val 44739"/>
              <a:gd name="adj2" fmla="val 44735"/>
              <a:gd name="adj3" fmla="val 16667"/>
              <a:gd name="adj4" fmla="val 66673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300560" y="3886200"/>
            <a:ext cx="1033560" cy="25146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孰为汝多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乎？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" descr=""/>
          <p:cNvPicPr/>
          <p:nvPr/>
        </p:nvPicPr>
        <p:blipFill>
          <a:blip r:embed="rId1"/>
          <a:stretch/>
        </p:blipFill>
        <p:spPr>
          <a:xfrm>
            <a:off x="4267080" y="914400"/>
            <a:ext cx="4040280" cy="5638680"/>
          </a:xfrm>
          <a:prstGeom prst="rect">
            <a:avLst/>
          </a:prstGeom>
          <a:ln w="0">
            <a:noFill/>
          </a:ln>
        </p:spPr>
      </p:pic>
      <p:sp>
        <p:nvSpPr>
          <p:cNvPr id="674" name="PubOvalCallout"/>
          <p:cNvSpPr/>
          <p:nvPr/>
        </p:nvSpPr>
        <p:spPr>
          <a:xfrm>
            <a:off x="2362320" y="0"/>
            <a:ext cx="3867120" cy="1886040"/>
          </a:xfrm>
          <a:custGeom>
            <a:avLst/>
            <a:gdLst>
              <a:gd name="textAreaLeft" fmla="*/ 566280 w 3867120"/>
              <a:gd name="textAreaRight" fmla="*/ 3300840 w 3867120"/>
              <a:gd name="textAreaTop" fmla="*/ 207000 h 1886040"/>
              <a:gd name="textAreaBottom" fmla="*/ 1208160 h 188604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知之为知之，不知为不知，是知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 txBox="1"/>
          <p:nvPr/>
        </p:nvSpPr>
        <p:spPr>
          <a:xfrm rot="5400000">
            <a:off x="1599480" y="4114800"/>
            <a:ext cx="2514600" cy="990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79000"/>
                    </a:srgbClr>
                  </a:outerShdw>
                </a:effectLst>
                <a:latin typeface="宋体"/>
              </a:rPr>
              <a:t>孔子</a:t>
            </a:r>
            <a:endParaRPr b="0" i="1" lang="en-US" sz="1800" spc="-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cover dir="d"/>
    <p:sndAc>
      <p:stSnd>
        <p:snd r:embed="rId2" name="chimes.wav"/>
      </p:stSnd>
    </p:sndAc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5334120" y="228600"/>
            <a:ext cx="2133360" cy="1295280"/>
          </a:xfrm>
          <a:custGeom>
            <a:avLst/>
            <a:gdLst>
              <a:gd name="textAreaLeft" fmla="*/ 333360 w 2133360"/>
              <a:gd name="textAreaRight" fmla="*/ 1866960 w 213336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得出的道理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1219320" y="2133720"/>
            <a:ext cx="6019560" cy="78552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100000">
                <a:srgbClr val="ffffff"/>
              </a:gs>
            </a:gsLst>
            <a:lin ang="5400000"/>
          </a:gradFill>
          <a:ln w="5076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学习孔子“知之为知之、不知为不知，是知也。”实事求是的治学态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1295280" y="3809880"/>
            <a:ext cx="6248520" cy="785520"/>
          </a:xfrm>
          <a:prstGeom prst="rect">
            <a:avLst/>
          </a:prstGeom>
          <a:gradFill rotWithShape="0">
            <a:gsLst>
              <a:gs pos="0">
                <a:srgbClr val="22cac2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33cc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学习两小儿善于从日常的自然事物中发现问题，独立思考，大胆质疑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1523880" y="5638680"/>
            <a:ext cx="6096240" cy="36828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学海无涯，即使最有学问的人也有难解的问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523880" y="762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741760" cy="2948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8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solidFill>
            <a:srgbClr val="ce996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作  业  超 市</a:t>
            </a:r>
            <a:endParaRPr b="1" lang="en-US" sz="6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914400" y="2285640"/>
            <a:ext cx="7772400" cy="3886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-308520">
              <a:spcBef>
                <a:spcPts val="10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Times New Roman"/>
              </a:rPr>
              <a:t>搜集文言文                 开拓视野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-308520">
              <a:spcBef>
                <a:spcPts val="10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Times New Roman"/>
              </a:rPr>
              <a:t>选择孔子的名言         自我积累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-308520">
              <a:spcBef>
                <a:spcPts val="10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Times New Roman"/>
              </a:rPr>
              <a:t>搜集资料                     解答疑问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-308520">
              <a:spcBef>
                <a:spcPts val="10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Times New Roman"/>
              </a:rPr>
              <a:t>改编课本剧                 陶冶情操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 txBox="1"/>
          <p:nvPr/>
        </p:nvSpPr>
        <p:spPr>
          <a:xfrm>
            <a:off x="466560" y="685800"/>
            <a:ext cx="837252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499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隶书"/>
              </a:rPr>
              <a:t>再见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隶书"/>
              <a:ea typeface="隶书"/>
            </a:endParaRPr>
          </a:p>
        </p:txBody>
      </p:sp>
    </p:spTree>
  </p:cSld>
  <p:transition>
    <p:wedge/>
    <p:sndAc>
      <p:stSnd>
        <p:snd r:embed="rId1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4747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-950760" y="-2322360"/>
            <a:ext cx="10780560" cy="918036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sp>
        <p:nvSpPr>
          <p:cNvPr id="567" name=""/>
          <p:cNvSpPr/>
          <p:nvPr/>
        </p:nvSpPr>
        <p:spPr>
          <a:xfrm>
            <a:off x="-141120" y="-2365200"/>
            <a:ext cx="10437480" cy="10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99ff66"/>
                </a:solidFill>
                <a:latin typeface="Arial"/>
                <a:ea typeface="幼圆"/>
              </a:rPr>
              <a:t>文言故事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  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永中粗黑"/>
              </a:rPr>
              <a:t>文言故事片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华文行楷"/>
              </a:rPr>
              <a:t>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华文行楷"/>
              </a:rPr>
              <a:t>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cc99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cc99"/>
                </a:solidFill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导  演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: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王 老 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        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演  员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: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寺湾镇中八二班学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华文行楷"/>
              </a:rPr>
              <a:t>寺 湾 镇 中 心 学 校 电 视 剧 制 作 中 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1258920" y="1341360"/>
            <a:ext cx="611964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两小儿辩日</a:t>
            </a:r>
            <a:endParaRPr b="1" lang="en-US" sz="18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p:transition>
    <p:newsflash/>
    <p:sndAc>
      <p:stSnd>
        <p:snd r:embed="rId2" name="explode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0" y="914400"/>
            <a:ext cx="91440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孔子东游，见两小儿辩斗，问其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儿曰：“我以日始出时去人近，而日中时远也。”一儿以日初出远，而日中时近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儿曰：“日初出大如车盖，及日中，则如盘盂，此不为远者小而近者大乎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儿曰：“日初出沧沧凉凉，及其日中如探汤，此不为近者热而远者凉乎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孔子不能决也。两小儿笑曰：“孰为汝多知乎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332000" y="549360"/>
            <a:ext cx="57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2556000" y="477720"/>
            <a:ext cx="38178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2556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9000"/>
                    </a:srgbClr>
                  </a:outerShdw>
                </a:effectLst>
                <a:latin typeface="宋体"/>
              </a:rPr>
              <a:t>两小儿辩日</a:t>
            </a:r>
            <a:endParaRPr b="0" lang="en-US" sz="1800" spc="1" strike="noStrike">
              <a:ln w="2556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pic>
        <p:nvPicPr>
          <p:cNvPr id="57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79280" y="-19080"/>
            <a:ext cx="878544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47491" fill="hold"/>
                                        <p:tgtEl>
                                          <p:spTgt spid="5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573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573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5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7720" y="198000"/>
            <a:ext cx="8001000" cy="1143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Arial"/>
                <a:ea typeface="华文行楷"/>
              </a:rPr>
              <a:t>          </a:t>
            </a:r>
            <a:r>
              <a:rPr b="0" lang="zh-CN" sz="5400" spc="-1" strike="noStrike">
                <a:solidFill>
                  <a:srgbClr val="3333cc"/>
                </a:solidFill>
                <a:latin typeface="Arial"/>
                <a:ea typeface="华文行楷"/>
              </a:rPr>
              <a:t>温   馨   提   示</a:t>
            </a:r>
            <a:endParaRPr b="1" lang="en-US" sz="5400" spc="-1" strike="noStrike">
              <a:solidFill>
                <a:srgbClr val="074888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SzPct val="1131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99"/>
                </a:solidFill>
                <a:latin typeface="Arial"/>
              </a:rPr>
              <a:t>时间：</a:t>
            </a:r>
            <a:r>
              <a:rPr b="0" lang="zh-CN" sz="3600" spc="-1" strike="noStrike">
                <a:solidFill>
                  <a:srgbClr val="ff66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五 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分 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99"/>
                </a:solidFill>
                <a:latin typeface="Arial"/>
              </a:rPr>
              <a:t>工作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结合注释理解字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联系上下文读通句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131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99"/>
                </a:solidFill>
                <a:latin typeface="Arial"/>
              </a:rPr>
              <a:t>方式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自主探究    小组合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做好分工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924360" y="5086440"/>
            <a:ext cx="6094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300720" y="5086440"/>
            <a:ext cx="5335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4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渔  歌  问  答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对阵双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男生         女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规       则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方读句子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方说句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943600" y="2057400"/>
            <a:ext cx="1981080" cy="402444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备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果认为对方读的不够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权不对这句话作出解释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362320" y="35053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  <p:sndAc>
      <p:stSnd>
        <p:snd r:embed="rId1" name="push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 txBox="1"/>
          <p:nvPr/>
        </p:nvSpPr>
        <p:spPr>
          <a:xfrm>
            <a:off x="5105520" y="198108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《列子</a:t>
            </a:r>
            <a:r>
              <a:rPr b="0" lang="en-US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·</a:t>
            </a:r>
            <a:r>
              <a:rPr b="0" lang="zh-CN" sz="18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汤问》</a:t>
            </a:r>
            <a:endParaRPr b="0" lang="en-US" sz="18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5"/>
          <a:stretch/>
        </p:blipFill>
        <p:spPr>
          <a:xfrm>
            <a:off x="990720" y="1600200"/>
            <a:ext cx="8001000" cy="4950000"/>
          </a:xfrm>
          <a:prstGeom prst="rect">
            <a:avLst/>
          </a:prstGeom>
          <a:ln w="0">
            <a:noFill/>
          </a:ln>
        </p:spPr>
      </p:pic>
      <p:pic>
        <p:nvPicPr>
          <p:cNvPr id="584" name="" descr=""/>
          <p:cNvPicPr/>
          <p:nvPr/>
        </p:nvPicPr>
        <p:blipFill>
          <a:blip r:embed="rId6"/>
          <a:stretch/>
        </p:blipFill>
        <p:spPr>
          <a:xfrm>
            <a:off x="6095880" y="4952880"/>
            <a:ext cx="1143000" cy="914400"/>
          </a:xfrm>
          <a:prstGeom prst="rect">
            <a:avLst/>
          </a:prstGeom>
          <a:ln w="0">
            <a:noFill/>
          </a:ln>
        </p:spPr>
      </p:pic>
      <p:sp>
        <p:nvSpPr>
          <p:cNvPr id="585" name=""/>
          <p:cNvSpPr/>
          <p:nvPr/>
        </p:nvSpPr>
        <p:spPr>
          <a:xfrm>
            <a:off x="4419720" y="4038480"/>
            <a:ext cx="1143000" cy="990720"/>
          </a:xfrm>
          <a:prstGeom prst="wedgeEllipseCallout">
            <a:avLst>
              <a:gd name="adj1" fmla="val -20555"/>
              <a:gd name="adj2" fmla="val 573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Arial"/>
              </a:rPr>
              <a:t>早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Arial"/>
              </a:rPr>
              <a:t>太阳离离人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6400800" y="3505320"/>
            <a:ext cx="914400" cy="1067400"/>
            <a:chOff x="6400800" y="3505320"/>
            <a:chExt cx="914400" cy="1067400"/>
          </a:xfrm>
        </p:grpSpPr>
        <p:sp>
          <p:nvSpPr>
            <p:cNvPr id="587" name=""/>
            <p:cNvSpPr/>
            <p:nvPr/>
          </p:nvSpPr>
          <p:spPr>
            <a:xfrm>
              <a:off x="6400800" y="3505320"/>
              <a:ext cx="914400" cy="1067400"/>
            </a:xfrm>
            <a:prstGeom prst="cloudCallout">
              <a:avLst>
                <a:gd name="adj1" fmla="val 5504"/>
                <a:gd name="adj2" fmla="val 101851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465960" y="3505320"/>
              <a:ext cx="718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3300"/>
                  </a:solidFill>
                  <a:latin typeface="Arial"/>
                </a:rPr>
                <a:t>早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3300"/>
                  </a:solidFill>
                  <a:latin typeface="Arial"/>
                </a:rPr>
                <a:t>太阳离人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3276720" y="3124080"/>
            <a:ext cx="533160" cy="457200"/>
          </a:xfrm>
          <a:prstGeom prst="ellipse">
            <a:avLst/>
          </a:prstGeom>
          <a:gradFill rotWithShape="0">
            <a:gsLst>
              <a:gs pos="0">
                <a:srgbClr val="fbf4e7"/>
              </a:gs>
              <a:gs pos="100000">
                <a:srgbClr val="fdfab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85800" y="1828800"/>
            <a:ext cx="76960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儿曰：“我                       时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人近，而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时远也。”一儿以日初出远，而日中时近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581280" y="1752480"/>
            <a:ext cx="58284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4022640" y="1755720"/>
            <a:ext cx="16923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Comic Sans MS"/>
              </a:rPr>
              <a:t>日始出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927760" y="1736640"/>
            <a:ext cx="76212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Comic Sans MS"/>
              </a:rPr>
              <a:t>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33520" y="2819520"/>
            <a:ext cx="170820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Comic Sans MS"/>
              </a:rPr>
              <a:t>日中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ubOvalCallout"/>
          <p:cNvSpPr/>
          <p:nvPr/>
        </p:nvSpPr>
        <p:spPr>
          <a:xfrm>
            <a:off x="3290760" y="322200"/>
            <a:ext cx="1086120" cy="1600200"/>
          </a:xfrm>
          <a:custGeom>
            <a:avLst/>
            <a:gdLst>
              <a:gd name="textAreaLeft" fmla="*/ 158760 w 1086120"/>
              <a:gd name="textAreaRight" fmla="*/ 927360 w 1086120"/>
              <a:gd name="textAreaTop" fmla="*/ 175680 h 1600200"/>
              <a:gd name="textAreaBottom" fmla="*/ 1024920 h 160020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认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ubOvalCallout"/>
          <p:cNvSpPr/>
          <p:nvPr/>
        </p:nvSpPr>
        <p:spPr>
          <a:xfrm>
            <a:off x="4317840" y="284040"/>
            <a:ext cx="1828800" cy="1600200"/>
          </a:xfrm>
          <a:custGeom>
            <a:avLst/>
            <a:gdLst>
              <a:gd name="textAreaLeft" fmla="*/ 267840 w 1828800"/>
              <a:gd name="textAreaRight" fmla="*/ 1560960 w 1828800"/>
              <a:gd name="textAreaTop" fmla="*/ 175680 h 1600200"/>
              <a:gd name="textAreaBottom" fmla="*/ 1024920 h 1600200"/>
            </a:gdLst>
            <a:ahLst/>
            <a:rect l="textAreaLeft" t="textAreaTop" r="textAreaRight" b="textAreaBottom"/>
            <a:pathLst>
              <a:path w="21600" h="21600">
                <a:moveTo>
                  <a:pt x="6038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太阳刚出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ubOvalCallout"/>
          <p:cNvSpPr/>
          <p:nvPr/>
        </p:nvSpPr>
        <p:spPr>
          <a:xfrm>
            <a:off x="6186600" y="533520"/>
            <a:ext cx="933480" cy="1371600"/>
          </a:xfrm>
          <a:custGeom>
            <a:avLst/>
            <a:gdLst>
              <a:gd name="textAreaLeft" fmla="*/ 136440 w 933480"/>
              <a:gd name="textAreaRight" fmla="*/ 797040 w 933480"/>
              <a:gd name="textAreaTop" fmla="*/ 150480 h 1371600"/>
              <a:gd name="textAreaBottom" fmla="*/ 878760 h 1371600"/>
            </a:gdLst>
            <a:ahLst/>
            <a:rect l="textAreaLeft" t="textAreaTop" r="textAreaRight" b="textAreaBottom"/>
            <a:pathLst>
              <a:path w="21600" h="21600">
                <a:moveTo>
                  <a:pt x="1947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ubOvalCallout"/>
          <p:cNvSpPr/>
          <p:nvPr/>
        </p:nvSpPr>
        <p:spPr>
          <a:xfrm>
            <a:off x="108000" y="765000"/>
            <a:ext cx="1238040" cy="2190960"/>
          </a:xfrm>
          <a:custGeom>
            <a:avLst/>
            <a:gdLst>
              <a:gd name="textAreaLeft" fmla="*/ 181080 w 1238040"/>
              <a:gd name="textAreaRight" fmla="*/ 1056960 w 1238040"/>
              <a:gd name="textAreaTop" fmla="*/ 240840 h 2190960"/>
              <a:gd name="textAreaBottom" fmla="*/ 1403640 h 2190960"/>
            </a:gdLst>
            <a:ahLst/>
            <a:rect l="textAreaLeft" t="textAreaTop" r="textAreaRight" b="textAreaBottom"/>
            <a:pathLst>
              <a:path w="21600" h="21600">
                <a:moveTo>
                  <a:pt x="10538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中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7"/>
          <a:stretch/>
        </p:blipFill>
        <p:spPr>
          <a:xfrm>
            <a:off x="4343400" y="5029200"/>
            <a:ext cx="1219320" cy="97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1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pic>
          <p:nvPicPr>
            <p:cNvPr id="602" name="" descr=""/>
            <p:cNvPicPr/>
            <p:nvPr/>
          </p:nvPicPr>
          <p:blipFill>
            <a:blip r:embed="rId1"/>
            <a:stretch/>
          </p:blipFill>
          <p:spPr>
            <a:xfrm>
              <a:off x="0" y="3594240"/>
              <a:ext cx="9144000" cy="32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" descr=""/>
            <p:cNvPicPr/>
            <p:nvPr/>
          </p:nvPicPr>
          <p:blipFill>
            <a:blip r:embed="rId2"/>
            <a:srcRect l="0" t="0" r="0" b="43255"/>
            <a:stretch/>
          </p:blipFill>
          <p:spPr>
            <a:xfrm>
              <a:off x="0" y="0"/>
              <a:ext cx="9144000" cy="389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4" name=""/>
          <p:cNvSpPr txBox="1"/>
          <p:nvPr/>
        </p:nvSpPr>
        <p:spPr>
          <a:xfrm rot="5400000">
            <a:off x="-1237320" y="1618200"/>
            <a:ext cx="346572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9900"/>
                </a:solidFill>
                <a:effectLst>
                  <a:outerShdw dist="107932" dir="8100000" blurRad="0" rotWithShape="0">
                    <a:srgbClr val="000080"/>
                  </a:outerShdw>
                </a:effectLst>
                <a:latin typeface="宋体"/>
              </a:rPr>
              <a:t>初升的太阳</a:t>
            </a:r>
            <a:endParaRPr b="1" lang="en-US" sz="1800" spc="-1" strike="noStrike">
              <a:ln w="0">
                <a:noFill/>
              </a:ln>
              <a:solidFill>
                <a:srgbClr val="ff9900"/>
              </a:solidFill>
              <a:effectLst>
                <a:outerShdw dist="107932" dir="8100000" blurRad="0" rotWithShape="0">
                  <a:srgbClr val="000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05" name=""/>
          <p:cNvSpPr/>
          <p:nvPr/>
        </p:nvSpPr>
        <p:spPr>
          <a:xfrm>
            <a:off x="2057400" y="388620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914400" y="3962520"/>
            <a:ext cx="822960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一儿曰：“日初出大如车盖，    日中，                如盘盂，    不    远者小而近者大乎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781680" y="3962520"/>
            <a:ext cx="68904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00"/>
                </a:solidFill>
                <a:latin typeface="Comic Sans MS"/>
              </a:rPr>
              <a:t>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57200" y="4419720"/>
            <a:ext cx="9604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00"/>
                </a:solidFill>
                <a:latin typeface="Comic Sans MS"/>
              </a:rPr>
              <a:t>   </a:t>
            </a:r>
            <a:r>
              <a:rPr b="0" lang="zh-CN" sz="3200" spc="-1" strike="noStrike">
                <a:solidFill>
                  <a:srgbClr val="009900"/>
                </a:solidFill>
                <a:latin typeface="Comic Sans MS"/>
              </a:rPr>
              <a:t>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666880" y="4419720"/>
            <a:ext cx="86364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00"/>
                </a:solidFill>
                <a:latin typeface="Comic Sans MS"/>
              </a:rPr>
              <a:t>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657600" y="4419720"/>
            <a:ext cx="90324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00"/>
                </a:solidFill>
                <a:latin typeface="Comic Sans MS"/>
              </a:rPr>
              <a:t>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ubRRectCallout"/>
          <p:cNvSpPr/>
          <p:nvPr/>
        </p:nvSpPr>
        <p:spPr>
          <a:xfrm>
            <a:off x="6553080" y="3200400"/>
            <a:ext cx="1219320" cy="795240"/>
          </a:xfrm>
          <a:custGeom>
            <a:avLst/>
            <a:gdLst>
              <a:gd name="textAreaLeft" fmla="*/ 7920 w 1219320"/>
              <a:gd name="textAreaRight" fmla="*/ 1208880 w 1219320"/>
              <a:gd name="textAreaTop" fmla="*/ 5040 h 795240"/>
              <a:gd name="textAreaBottom" fmla="*/ 630000 h 79524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到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ubRRectCallout"/>
          <p:cNvSpPr/>
          <p:nvPr/>
        </p:nvSpPr>
        <p:spPr>
          <a:xfrm>
            <a:off x="457200" y="3733920"/>
            <a:ext cx="760320" cy="809640"/>
          </a:xfrm>
          <a:custGeom>
            <a:avLst/>
            <a:gdLst>
              <a:gd name="textAreaLeft" fmla="*/ 5040 w 760320"/>
              <a:gd name="textAreaRight" fmla="*/ 753840 w 760320"/>
              <a:gd name="textAreaTop" fmla="*/ 5400 h 809640"/>
              <a:gd name="textAreaBottom" fmla="*/ 641160 h 80964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19843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ubTriangle"/>
          <p:cNvSpPr/>
          <p:nvPr/>
        </p:nvSpPr>
        <p:spPr>
          <a:xfrm>
            <a:off x="2209680" y="4876920"/>
            <a:ext cx="1486080" cy="1520640"/>
          </a:xfr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ubTriangle"/>
          <p:cNvSpPr/>
          <p:nvPr/>
        </p:nvSpPr>
        <p:spPr>
          <a:xfrm>
            <a:off x="3657600" y="4952880"/>
            <a:ext cx="1390680" cy="1352520"/>
          </a:xfr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  <p:sndAc>
      <p:stSnd>
        <p:snd r:embed="rId3" name="chimes.wav"/>
      </p:stSnd>
    </p:sndAc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533520" y="5029200"/>
            <a:ext cx="1600200" cy="1447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895480" y="3352680"/>
            <a:ext cx="1295640" cy="1219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257800" y="1981080"/>
            <a:ext cx="990720" cy="990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7620120" y="457200"/>
            <a:ext cx="685800" cy="6858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666880" y="3124080"/>
            <a:ext cx="1752840" cy="1600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105520" y="1523880"/>
            <a:ext cx="1447560" cy="1828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514600" y="571500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581280" y="5410080"/>
            <a:ext cx="5334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0">
                  <a:noFill/>
                </a:ln>
                <a:solidFill>
                  <a:srgbClr val="ff0000"/>
                </a:solidFill>
                <a:latin typeface="楷体_GB2312"/>
              </a:rPr>
              <a:t>日初出大如车盖</a:t>
            </a:r>
            <a:endParaRPr b="0" lang="en-US" sz="6000" spc="-1" strike="noStrike">
              <a:ln w="0">
                <a:noFill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sp>
        <p:nvSpPr>
          <p:cNvPr id="623" name=""/>
          <p:cNvSpPr/>
          <p:nvPr/>
        </p:nvSpPr>
        <p:spPr>
          <a:xfrm>
            <a:off x="6553080" y="762120"/>
            <a:ext cx="685800" cy="228600"/>
          </a:xfrm>
          <a:prstGeom prst="leftArrow">
            <a:avLst>
              <a:gd name="adj1" fmla="val 50000"/>
              <a:gd name="adj2" fmla="val 75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228600" y="533520"/>
            <a:ext cx="60958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0">
                  <a:noFill/>
                </a:ln>
                <a:solidFill>
                  <a:srgbClr val="ff0000"/>
                </a:solidFill>
                <a:latin typeface="楷体_GB2312"/>
              </a:rPr>
              <a:t>及日中，则如盘盂</a:t>
            </a:r>
            <a:endParaRPr b="0" lang="en-US" sz="6000" spc="-1" strike="noStrike">
              <a:ln w="0">
                <a:noFill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838080" y="2362320"/>
            <a:ext cx="76964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3366ff"/>
                </a:solidFill>
                <a:latin typeface="楷体_GB2312"/>
              </a:rPr>
              <a:t>此不为远者小而近者大乎？</a:t>
            </a:r>
            <a:endParaRPr b="0" lang="en-US" sz="1800" spc="-1" strike="noStrike">
              <a:ln w="0">
                <a:noFill/>
              </a:ln>
              <a:solidFill>
                <a:srgbClr val="3366ff"/>
              </a:solidFill>
              <a:latin typeface="楷体_GB2312"/>
              <a:ea typeface="楷体_GB2312"/>
            </a:endParaRPr>
          </a:p>
        </p:txBody>
      </p:sp>
      <p:sp>
        <p:nvSpPr>
          <p:cNvPr id="626" name=""/>
          <p:cNvSpPr/>
          <p:nvPr/>
        </p:nvSpPr>
        <p:spPr>
          <a:xfrm>
            <a:off x="8381880" y="6324480"/>
            <a:ext cx="381240" cy="304920"/>
          </a:xfrm>
          <a:prstGeom prst="smileyFace">
            <a:avLst>
              <a:gd name="adj" fmla="val 465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5T11:23:30Z</dcterms:created>
  <dc:creator>王栋梁</dc:creator>
  <dc:description/>
  <dc:language>en-US</dc:language>
  <cp:lastModifiedBy/>
  <cp:lastPrinted>1899-12-30T00:00:00Z</cp:lastPrinted>
  <dcterms:modified xsi:type="dcterms:W3CDTF">1899-12-30T00:00:0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